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%D0%A5%D0%BC....wav" ContentType="audio/x-wav"/>
  <Override PartName="/ppt/media/laser.wav" ContentType="audio/x-wav"/>
  <Override PartName="/ppt/media/chimes.wav" ContentType="audio/x-wav"/>
  <Override PartName="/ppt/media/image6.jpeg" ContentType="image/jpeg"/>
  <Override PartName="/ppt/media/wind.wav" ContentType="audio/x-wav"/>
  <Override PartName="/ppt/media/image5.wmf" ContentType="image/x-wmf"/>
  <Override PartName="/ppt/media/image4.png" ContentType="image/png"/>
  <Override PartName="/ppt/media/voltage.wav" ContentType="audio/x-wav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A78-69A0-498D-82CD-685751BA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F13-641B-451A-89CE-9D3A80EF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DF8-1613-4848-A8F2-E7ADF6E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BA9-66CC-4A38-A7D0-9D65C018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B74-2E33-42EA-A91A-17A296D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EE2-1D98-4C99-9791-E17C17C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A49-2484-4618-BD8F-9EEEAE0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499-278B-44BC-99F3-7E2A276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24F-ED92-4664-B251-EECB3D3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F7E-87FC-46E3-8B49-6F3F81B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36E-434B-47C5-988B-BD11C99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E60-C433-4BB4-A21C-3F86D43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3FF-EEC6-44AC-9AF7-07AC29A40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audio" Target="../media/push.wav"/><Relationship Id="rId1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&#1061;&#1084;...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189000"/>
            <a:ext cx="8496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71880" y="3475080"/>
            <a:ext cx="3155760" cy="2628720"/>
            <a:chOff x="1271880" y="3475080"/>
            <a:chExt cx="3155760" cy="2628720"/>
          </a:xfrm>
        </p:grpSpPr>
        <p:sp>
          <p:nvSpPr>
            <p:cNvPr id="78" name=""/>
            <p:cNvSpPr/>
            <p:nvPr/>
          </p:nvSpPr>
          <p:spPr>
            <a:xfrm rot="3208800">
              <a:off x="1855800" y="4755240"/>
              <a:ext cx="234720" cy="1572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42520" y="3475080"/>
              <a:ext cx="2085120" cy="201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4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4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4570920" y="2347920"/>
            <a:ext cx="1585440" cy="1584000"/>
            <a:chOff x="4570920" y="2347920"/>
            <a:chExt cx="1585440" cy="1584000"/>
          </a:xfrm>
        </p:grpSpPr>
        <p:grpSp>
          <p:nvGrpSpPr>
            <p:cNvPr id="1746" name=""/>
            <p:cNvGrpSpPr/>
            <p:nvPr/>
          </p:nvGrpSpPr>
          <p:grpSpPr>
            <a:xfrm>
              <a:off x="4570920" y="2347920"/>
              <a:ext cx="1585440" cy="1584000"/>
              <a:chOff x="4570920" y="2347920"/>
              <a:chExt cx="1585440" cy="1584000"/>
            </a:xfrm>
          </p:grpSpPr>
          <p:sp>
            <p:nvSpPr>
              <p:cNvPr id="1747" name=""/>
              <p:cNvSpPr/>
              <p:nvPr/>
            </p:nvSpPr>
            <p:spPr>
              <a:xfrm>
                <a:off x="4572000" y="2391120"/>
                <a:ext cx="1584360" cy="15408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4570920" y="2347920"/>
                <a:ext cx="1415520" cy="1314000"/>
                <a:chOff x="4570920" y="2347920"/>
                <a:chExt cx="1415520" cy="131400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4793040" y="2347920"/>
                  <a:ext cx="1193400" cy="992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4572000" y="3048840"/>
                  <a:ext cx="1326240" cy="6130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058360" y="2895120"/>
                  <a:ext cx="529920" cy="37260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4793040" y="3048840"/>
                  <a:ext cx="1148760" cy="30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235480" y="2478960"/>
                  <a:ext cx="132480" cy="131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588280" y="2873160"/>
                  <a:ext cx="87480" cy="874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367960" y="2347920"/>
                  <a:ext cx="573840" cy="5252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rot="2287200">
                  <a:off x="5014080" y="2697840"/>
                  <a:ext cx="88560" cy="263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5058360" y="3354120"/>
                  <a:ext cx="618480" cy="262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4439000">
                  <a:off x="5002200" y="3366360"/>
                  <a:ext cx="11088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 rot="4625400">
                  <a:off x="4552200" y="3153960"/>
                  <a:ext cx="434160" cy="3088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0" name=""/>
                <p:cNvGrpSpPr/>
                <p:nvPr/>
              </p:nvGrpSpPr>
              <p:grpSpPr>
                <a:xfrm>
                  <a:off x="5676840" y="3004200"/>
                  <a:ext cx="132480" cy="307080"/>
                  <a:chOff x="5676840" y="3004200"/>
                  <a:chExt cx="132480" cy="307080"/>
                </a:xfrm>
              </p:grpSpPr>
              <p:grpSp>
                <p:nvGrpSpPr>
                  <p:cNvPr id="1761" name=""/>
                  <p:cNvGrpSpPr/>
                  <p:nvPr/>
                </p:nvGrpSpPr>
                <p:grpSpPr>
                  <a:xfrm>
                    <a:off x="5676840" y="3004200"/>
                    <a:ext cx="132480" cy="307080"/>
                    <a:chOff x="5676840" y="3004200"/>
                    <a:chExt cx="132480" cy="307080"/>
                  </a:xfrm>
                </p:grpSpPr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5676840" y="3004200"/>
                      <a:ext cx="132480" cy="3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5720400" y="3092040"/>
                      <a:ext cx="43920" cy="432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5720400" y="3179880"/>
                      <a:ext cx="43920" cy="432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5676840" y="322308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6" name=""/>
                  <p:cNvGrpSpPr/>
                  <p:nvPr/>
                </p:nvGrpSpPr>
                <p:grpSpPr>
                  <a:xfrm>
                    <a:off x="5720760" y="3135240"/>
                    <a:ext cx="88200" cy="175680"/>
                    <a:chOff x="5720760" y="3135240"/>
                    <a:chExt cx="88200" cy="175680"/>
                  </a:xfrm>
                </p:grpSpPr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5720760" y="313524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5720760" y="326736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5765400" y="322272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5765400" y="313524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71" name=""/>
            <p:cNvSpPr/>
            <p:nvPr/>
          </p:nvSpPr>
          <p:spPr>
            <a:xfrm>
              <a:off x="4793040" y="3048840"/>
              <a:ext cx="1148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7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7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4641840" y="2419200"/>
            <a:ext cx="1514520" cy="1513080"/>
            <a:chOff x="4641840" y="2419200"/>
            <a:chExt cx="1514520" cy="1513080"/>
          </a:xfrm>
        </p:grpSpPr>
        <p:grpSp>
          <p:nvGrpSpPr>
            <p:cNvPr id="1777" name=""/>
            <p:cNvGrpSpPr/>
            <p:nvPr/>
          </p:nvGrpSpPr>
          <p:grpSpPr>
            <a:xfrm>
              <a:off x="4641840" y="2419200"/>
              <a:ext cx="1514520" cy="1513080"/>
              <a:chOff x="4641840" y="2419200"/>
              <a:chExt cx="1514520" cy="1513080"/>
            </a:xfrm>
          </p:grpSpPr>
          <p:sp>
            <p:nvSpPr>
              <p:cNvPr id="1778" name=""/>
              <p:cNvSpPr/>
              <p:nvPr/>
            </p:nvSpPr>
            <p:spPr>
              <a:xfrm>
                <a:off x="4643280" y="2460600"/>
                <a:ext cx="1513080" cy="1471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9" name=""/>
              <p:cNvGrpSpPr/>
              <p:nvPr/>
            </p:nvGrpSpPr>
            <p:grpSpPr>
              <a:xfrm>
                <a:off x="4641840" y="2419200"/>
                <a:ext cx="1352160" cy="1254600"/>
                <a:chOff x="4641840" y="2419200"/>
                <a:chExt cx="1352160" cy="125460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854240" y="2419200"/>
                  <a:ext cx="1139760" cy="947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643280" y="3088440"/>
                  <a:ext cx="1266480" cy="5853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107680" y="2941920"/>
                  <a:ext cx="506160" cy="3556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854240" y="3088440"/>
                  <a:ext cx="1096920" cy="29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276880" y="2544480"/>
                  <a:ext cx="126360" cy="125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613840" y="2920680"/>
                  <a:ext cx="83520" cy="835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403600" y="2419200"/>
                  <a:ext cx="547920" cy="5014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2287200">
                  <a:off x="5065200" y="2754000"/>
                  <a:ext cx="84600" cy="2512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5107680" y="3380040"/>
                  <a:ext cx="590760" cy="250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4439000">
                  <a:off x="5054040" y="3391200"/>
                  <a:ext cx="10584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 rot="4625400">
                  <a:off x="4623840" y="3189960"/>
                  <a:ext cx="414720" cy="294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1" name=""/>
                <p:cNvGrpSpPr/>
                <p:nvPr/>
              </p:nvGrpSpPr>
              <p:grpSpPr>
                <a:xfrm>
                  <a:off x="5698440" y="3045960"/>
                  <a:ext cx="126360" cy="293400"/>
                  <a:chOff x="5698440" y="3045960"/>
                  <a:chExt cx="126360" cy="293400"/>
                </a:xfrm>
              </p:grpSpPr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698440" y="3045960"/>
                    <a:ext cx="126360" cy="293400"/>
                    <a:chOff x="5698440" y="3045960"/>
                    <a:chExt cx="126360" cy="293400"/>
                  </a:xfrm>
                </p:grpSpPr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5698440" y="3045960"/>
                      <a:ext cx="12636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5739840" y="31298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5739840" y="321372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5698440" y="3255120"/>
                      <a:ext cx="4140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7" name=""/>
                  <p:cNvGrpSpPr/>
                  <p:nvPr/>
                </p:nvGrpSpPr>
                <p:grpSpPr>
                  <a:xfrm>
                    <a:off x="5740200" y="3171240"/>
                    <a:ext cx="84240" cy="167400"/>
                    <a:chOff x="5740200" y="3171240"/>
                    <a:chExt cx="84240" cy="167400"/>
                  </a:xfrm>
                </p:grpSpPr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740200" y="3171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5740200" y="3297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5782680" y="325476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5782680" y="3171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02" name=""/>
            <p:cNvSpPr/>
            <p:nvPr/>
          </p:nvSpPr>
          <p:spPr>
            <a:xfrm>
              <a:off x="4854240" y="3088440"/>
              <a:ext cx="109692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0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0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4715640" y="2492280"/>
            <a:ext cx="1440720" cy="1439640"/>
            <a:chOff x="4715640" y="2492280"/>
            <a:chExt cx="1440720" cy="1439640"/>
          </a:xfrm>
        </p:grpSpPr>
        <p:grpSp>
          <p:nvGrpSpPr>
            <p:cNvPr id="1808" name=""/>
            <p:cNvGrpSpPr/>
            <p:nvPr/>
          </p:nvGrpSpPr>
          <p:grpSpPr>
            <a:xfrm>
              <a:off x="4715640" y="2492280"/>
              <a:ext cx="1440720" cy="1439640"/>
              <a:chOff x="4715640" y="2492280"/>
              <a:chExt cx="1440720" cy="1439640"/>
            </a:xfrm>
          </p:grpSpPr>
          <p:sp>
            <p:nvSpPr>
              <p:cNvPr id="1809" name=""/>
              <p:cNvSpPr/>
              <p:nvPr/>
            </p:nvSpPr>
            <p:spPr>
              <a:xfrm>
                <a:off x="4716360" y="2531520"/>
                <a:ext cx="1440000" cy="14004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4715640" y="2492280"/>
                <a:ext cx="1286280" cy="1193760"/>
                <a:chOff x="4715640" y="2492280"/>
                <a:chExt cx="1286280" cy="119376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917240" y="2492280"/>
                  <a:ext cx="1084680" cy="90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716360" y="3129120"/>
                  <a:ext cx="1205280" cy="5569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158440" y="2989800"/>
                  <a:ext cx="481680" cy="33840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4917240" y="3129120"/>
                  <a:ext cx="1044000" cy="2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319360" y="2611440"/>
                  <a:ext cx="120240" cy="119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640120" y="2969640"/>
                  <a:ext cx="79200" cy="795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439960" y="2492280"/>
                  <a:ext cx="521280" cy="4773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rot="2287200">
                  <a:off x="5117760" y="2810880"/>
                  <a:ext cx="80640" cy="239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V="1">
                  <a:off x="5158440" y="3406680"/>
                  <a:ext cx="562320" cy="2386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rot="14439000">
                  <a:off x="5107320" y="3417480"/>
                  <a:ext cx="100800" cy="16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 flipV="1" rot="4625400">
                  <a:off x="4698720" y="3225600"/>
                  <a:ext cx="394560" cy="280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2" name=""/>
                <p:cNvGrpSpPr/>
                <p:nvPr/>
              </p:nvGrpSpPr>
              <p:grpSpPr>
                <a:xfrm>
                  <a:off x="5720760" y="3088800"/>
                  <a:ext cx="120240" cy="279000"/>
                  <a:chOff x="5720760" y="3088800"/>
                  <a:chExt cx="120240" cy="279000"/>
                </a:xfrm>
              </p:grpSpPr>
              <p:grpSp>
                <p:nvGrpSpPr>
                  <p:cNvPr id="1823" name=""/>
                  <p:cNvGrpSpPr/>
                  <p:nvPr/>
                </p:nvGrpSpPr>
                <p:grpSpPr>
                  <a:xfrm>
                    <a:off x="5720760" y="3088800"/>
                    <a:ext cx="120240" cy="279000"/>
                    <a:chOff x="5720760" y="3088800"/>
                    <a:chExt cx="120240" cy="279000"/>
                  </a:xfrm>
                </p:grpSpPr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5720760" y="3088800"/>
                      <a:ext cx="120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"/>
                    <p:cNvSpPr/>
                    <p:nvPr/>
                  </p:nvSpPr>
                  <p:spPr>
                    <a:xfrm>
                      <a:off x="5760360" y="316872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5760360" y="324828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5720760" y="328788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8" name=""/>
                  <p:cNvGrpSpPr/>
                  <p:nvPr/>
                </p:nvGrpSpPr>
                <p:grpSpPr>
                  <a:xfrm>
                    <a:off x="5760360" y="3207960"/>
                    <a:ext cx="79920" cy="159120"/>
                    <a:chOff x="5760360" y="3207960"/>
                    <a:chExt cx="79920" cy="159120"/>
                  </a:xfrm>
                </p:grpSpPr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5760360" y="320796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5760360" y="332784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5800680" y="328752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5800680" y="320796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33" name=""/>
            <p:cNvSpPr/>
            <p:nvPr/>
          </p:nvSpPr>
          <p:spPr>
            <a:xfrm>
              <a:off x="4917240" y="3129120"/>
              <a:ext cx="10440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3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3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4786560" y="2563920"/>
            <a:ext cx="1369800" cy="1368360"/>
            <a:chOff x="4786560" y="2563920"/>
            <a:chExt cx="1369800" cy="1368360"/>
          </a:xfrm>
        </p:grpSpPr>
        <p:grpSp>
          <p:nvGrpSpPr>
            <p:cNvPr id="1839" name=""/>
            <p:cNvGrpSpPr/>
            <p:nvPr/>
          </p:nvGrpSpPr>
          <p:grpSpPr>
            <a:xfrm>
              <a:off x="4786560" y="2563920"/>
              <a:ext cx="1369800" cy="1368360"/>
              <a:chOff x="4786560" y="2563920"/>
              <a:chExt cx="1369800" cy="1368360"/>
            </a:xfrm>
          </p:grpSpPr>
          <p:sp>
            <p:nvSpPr>
              <p:cNvPr id="1840" name=""/>
              <p:cNvSpPr/>
              <p:nvPr/>
            </p:nvSpPr>
            <p:spPr>
              <a:xfrm>
                <a:off x="4788000" y="2601360"/>
                <a:ext cx="1368360" cy="13309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4786560" y="2563920"/>
                <a:ext cx="1222920" cy="1134360"/>
                <a:chOff x="4786560" y="2563920"/>
                <a:chExt cx="1222920" cy="113436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4978800" y="2563920"/>
                  <a:ext cx="1030680" cy="85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788000" y="3169080"/>
                  <a:ext cx="1145160" cy="5292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207760" y="3036600"/>
                  <a:ext cx="457560" cy="3218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78800" y="3169080"/>
                  <a:ext cx="992160" cy="2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361120" y="2677320"/>
                  <a:ext cx="114480" cy="11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665680" y="3017520"/>
                  <a:ext cx="75240" cy="756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475600" y="2563920"/>
                  <a:ext cx="495360" cy="453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2287200">
                  <a:off x="5169600" y="2866680"/>
                  <a:ext cx="76680" cy="227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5207760" y="3433320"/>
                  <a:ext cx="534240" cy="2268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14439000">
                  <a:off x="5159520" y="3443040"/>
                  <a:ext cx="9576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 flipV="1" rot="4625400">
                  <a:off x="4770360" y="3261240"/>
                  <a:ext cx="375120" cy="2667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3" name=""/>
                <p:cNvGrpSpPr/>
                <p:nvPr/>
              </p:nvGrpSpPr>
              <p:grpSpPr>
                <a:xfrm>
                  <a:off x="5742360" y="3130560"/>
                  <a:ext cx="114480" cy="265320"/>
                  <a:chOff x="5742360" y="3130560"/>
                  <a:chExt cx="114480" cy="265320"/>
                </a:xfrm>
              </p:grpSpPr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5742360" y="3130560"/>
                    <a:ext cx="114480" cy="265320"/>
                    <a:chOff x="5742360" y="3130560"/>
                    <a:chExt cx="114480" cy="26532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5742360" y="3130560"/>
                      <a:ext cx="1144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5780160" y="320652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5780160" y="328248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5742360" y="331992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780160" y="3243960"/>
                    <a:ext cx="76320" cy="151560"/>
                    <a:chOff x="5780160" y="3243960"/>
                    <a:chExt cx="76320" cy="15156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5780160" y="32439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5780160" y="335808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5818680" y="33195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5818680" y="32439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64" name=""/>
            <p:cNvSpPr/>
            <p:nvPr/>
          </p:nvSpPr>
          <p:spPr>
            <a:xfrm>
              <a:off x="4978800" y="3169080"/>
              <a:ext cx="99216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6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6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4858560" y="2635200"/>
            <a:ext cx="1297800" cy="1296720"/>
            <a:chOff x="4858560" y="2635200"/>
            <a:chExt cx="1297800" cy="1296720"/>
          </a:xfrm>
        </p:grpSpPr>
        <p:grpSp>
          <p:nvGrpSpPr>
            <p:cNvPr id="1870" name=""/>
            <p:cNvGrpSpPr/>
            <p:nvPr/>
          </p:nvGrpSpPr>
          <p:grpSpPr>
            <a:xfrm>
              <a:off x="4858560" y="2635200"/>
              <a:ext cx="1297800" cy="1296720"/>
              <a:chOff x="4858560" y="2635200"/>
              <a:chExt cx="1297800" cy="1296720"/>
            </a:xfrm>
          </p:grpSpPr>
          <p:sp>
            <p:nvSpPr>
              <p:cNvPr id="1871" name=""/>
              <p:cNvSpPr/>
              <p:nvPr/>
            </p:nvSpPr>
            <p:spPr>
              <a:xfrm>
                <a:off x="4859280" y="2670480"/>
                <a:ext cx="1297080" cy="12614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4858560" y="2635200"/>
                <a:ext cx="1159200" cy="1075680"/>
                <a:chOff x="4858560" y="2635200"/>
                <a:chExt cx="1159200" cy="10756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5040360" y="2635200"/>
                  <a:ext cx="977400" cy="812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4859280" y="3209040"/>
                  <a:ext cx="1085760" cy="5018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257440" y="3083400"/>
                  <a:ext cx="433800" cy="3049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040360" y="3209040"/>
                  <a:ext cx="940680" cy="25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402520" y="2742480"/>
                  <a:ext cx="108360" cy="107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691600" y="3065040"/>
                  <a:ext cx="71640" cy="716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11240" y="2635200"/>
                  <a:ext cx="469800" cy="429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rot="2287200">
                  <a:off x="5221080" y="2921760"/>
                  <a:ext cx="72720" cy="215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5257440" y="3458880"/>
                  <a:ext cx="506520" cy="214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rot="14439000">
                  <a:off x="5211720" y="3468240"/>
                  <a:ext cx="90720" cy="14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 flipV="1" rot="4625400">
                  <a:off x="4843440" y="3295800"/>
                  <a:ext cx="355680" cy="253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4" name=""/>
                <p:cNvGrpSpPr/>
                <p:nvPr/>
              </p:nvGrpSpPr>
              <p:grpSpPr>
                <a:xfrm>
                  <a:off x="5763960" y="3172680"/>
                  <a:ext cx="108360" cy="251280"/>
                  <a:chOff x="5763960" y="3172680"/>
                  <a:chExt cx="108360" cy="251280"/>
                </a:xfrm>
              </p:grpSpPr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5763960" y="3172680"/>
                    <a:ext cx="108360" cy="251280"/>
                    <a:chOff x="5763960" y="3172680"/>
                    <a:chExt cx="108360" cy="25128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5763960" y="3172680"/>
                      <a:ext cx="10836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5799600" y="3244680"/>
                      <a:ext cx="35640" cy="35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5799600" y="3316320"/>
                      <a:ext cx="35640" cy="35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5763960" y="3351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5799600" y="3279960"/>
                    <a:ext cx="72000" cy="143640"/>
                    <a:chOff x="5799600" y="3279960"/>
                    <a:chExt cx="72000" cy="1436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5799600" y="3279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5799600" y="3387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5835960" y="335160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5835960" y="3279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95" name=""/>
            <p:cNvSpPr/>
            <p:nvPr/>
          </p:nvSpPr>
          <p:spPr>
            <a:xfrm>
              <a:off x="5040360" y="3209040"/>
              <a:ext cx="94032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9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9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931640" y="2708280"/>
            <a:ext cx="1224720" cy="1224000"/>
            <a:chOff x="4931640" y="2708280"/>
            <a:chExt cx="1224720" cy="1224000"/>
          </a:xfrm>
        </p:grpSpPr>
        <p:grpSp>
          <p:nvGrpSpPr>
            <p:cNvPr id="1901" name=""/>
            <p:cNvGrpSpPr/>
            <p:nvPr/>
          </p:nvGrpSpPr>
          <p:grpSpPr>
            <a:xfrm>
              <a:off x="4931640" y="2708280"/>
              <a:ext cx="1224720" cy="1224000"/>
              <a:chOff x="4931640" y="2708280"/>
              <a:chExt cx="1224720" cy="1224000"/>
            </a:xfrm>
          </p:grpSpPr>
          <p:sp>
            <p:nvSpPr>
              <p:cNvPr id="1902" name=""/>
              <p:cNvSpPr/>
              <p:nvPr/>
            </p:nvSpPr>
            <p:spPr>
              <a:xfrm>
                <a:off x="4932360" y="2741760"/>
                <a:ext cx="1224000" cy="119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4931640" y="2708280"/>
                <a:ext cx="1093320" cy="1015200"/>
                <a:chOff x="4931640" y="2708280"/>
                <a:chExt cx="1093320" cy="101520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5103000" y="2708280"/>
                  <a:ext cx="921960" cy="766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932360" y="3249720"/>
                  <a:ext cx="1024560" cy="4737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307840" y="3131280"/>
                  <a:ext cx="409320" cy="2876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103000" y="3249720"/>
                  <a:ext cx="88740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445000" y="2809800"/>
                  <a:ext cx="102240" cy="101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717520" y="3114000"/>
                  <a:ext cx="67320" cy="676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547240" y="2708280"/>
                  <a:ext cx="443160" cy="4057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2287200">
                  <a:off x="5273640" y="2979000"/>
                  <a:ext cx="68400" cy="203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V="1">
                  <a:off x="5307840" y="3486240"/>
                  <a:ext cx="477720" cy="203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4439000">
                  <a:off x="5265000" y="3494880"/>
                  <a:ext cx="85680" cy="13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 flipV="1" rot="4625400">
                  <a:off x="4916880" y="3332160"/>
                  <a:ext cx="335520" cy="238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5" name=""/>
                <p:cNvGrpSpPr/>
                <p:nvPr/>
              </p:nvGrpSpPr>
              <p:grpSpPr>
                <a:xfrm>
                  <a:off x="5785920" y="3215520"/>
                  <a:ext cx="102240" cy="237240"/>
                  <a:chOff x="5785920" y="3215520"/>
                  <a:chExt cx="102240" cy="237240"/>
                </a:xfrm>
              </p:grpSpPr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5785920" y="3215520"/>
                    <a:ext cx="102240" cy="237240"/>
                    <a:chOff x="5785920" y="3215520"/>
                    <a:chExt cx="102240" cy="23724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>
                      <a:off x="5785920" y="3215520"/>
                      <a:ext cx="10224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>
                      <a:off x="5819400" y="328320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5819400" y="33512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5785920" y="3384720"/>
                      <a:ext cx="3348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5819760" y="3317040"/>
                    <a:ext cx="68400" cy="135360"/>
                    <a:chOff x="5819760" y="3317040"/>
                    <a:chExt cx="68400" cy="13536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819760" y="33170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819760" y="341892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>
                      <a:off x="5854320" y="338472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5854320" y="33170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26" name=""/>
            <p:cNvSpPr/>
            <p:nvPr/>
          </p:nvSpPr>
          <p:spPr>
            <a:xfrm>
              <a:off x="5103000" y="3249720"/>
              <a:ext cx="88740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2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2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5002920" y="2779560"/>
            <a:ext cx="1153440" cy="1152360"/>
            <a:chOff x="5002920" y="2779560"/>
            <a:chExt cx="1153440" cy="1152360"/>
          </a:xfrm>
        </p:grpSpPr>
        <p:grpSp>
          <p:nvGrpSpPr>
            <p:cNvPr id="1932" name=""/>
            <p:cNvGrpSpPr/>
            <p:nvPr/>
          </p:nvGrpSpPr>
          <p:grpSpPr>
            <a:xfrm>
              <a:off x="5002920" y="2779560"/>
              <a:ext cx="1153440" cy="1152360"/>
              <a:chOff x="5002920" y="2779560"/>
              <a:chExt cx="1153440" cy="1152360"/>
            </a:xfrm>
          </p:grpSpPr>
          <p:sp>
            <p:nvSpPr>
              <p:cNvPr id="1933" name=""/>
              <p:cNvSpPr/>
              <p:nvPr/>
            </p:nvSpPr>
            <p:spPr>
              <a:xfrm>
                <a:off x="5003640" y="2810880"/>
                <a:ext cx="1152720" cy="11210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4" name=""/>
              <p:cNvGrpSpPr/>
              <p:nvPr/>
            </p:nvGrpSpPr>
            <p:grpSpPr>
              <a:xfrm>
                <a:off x="5002920" y="2779560"/>
                <a:ext cx="1029960" cy="955800"/>
                <a:chOff x="5002920" y="2779560"/>
                <a:chExt cx="1029960" cy="95580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5164560" y="2779560"/>
                  <a:ext cx="868320" cy="72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003640" y="3289320"/>
                  <a:ext cx="964800" cy="4460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357160" y="3177720"/>
                  <a:ext cx="385560" cy="2710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164560" y="3289320"/>
                  <a:ext cx="83556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486400" y="2874960"/>
                  <a:ext cx="96120" cy="95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743080" y="3161520"/>
                  <a:ext cx="63360" cy="637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582880" y="2779560"/>
                  <a:ext cx="417240" cy="38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2287200">
                  <a:off x="5325120" y="3034440"/>
                  <a:ext cx="64440" cy="1915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5357160" y="3511440"/>
                  <a:ext cx="450000" cy="191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rot="14439000">
                  <a:off x="5316840" y="3519720"/>
                  <a:ext cx="8064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 flipV="1" rot="4625400">
                  <a:off x="4989600" y="3366360"/>
                  <a:ext cx="315720" cy="224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6" name=""/>
                <p:cNvGrpSpPr/>
                <p:nvPr/>
              </p:nvGrpSpPr>
              <p:grpSpPr>
                <a:xfrm>
                  <a:off x="5807520" y="3256920"/>
                  <a:ext cx="96120" cy="223200"/>
                  <a:chOff x="5807520" y="3256920"/>
                  <a:chExt cx="96120" cy="223200"/>
                </a:xfrm>
              </p:grpSpPr>
              <p:grpSp>
                <p:nvGrpSpPr>
                  <p:cNvPr id="1947" name=""/>
                  <p:cNvGrpSpPr/>
                  <p:nvPr/>
                </p:nvGrpSpPr>
                <p:grpSpPr>
                  <a:xfrm>
                    <a:off x="5807520" y="3256920"/>
                    <a:ext cx="96120" cy="223200"/>
                    <a:chOff x="5807520" y="3256920"/>
                    <a:chExt cx="96120" cy="223200"/>
                  </a:xfrm>
                </p:grpSpPr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5807520" y="3256920"/>
                      <a:ext cx="9612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839200" y="3320640"/>
                      <a:ext cx="31680" cy="31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5839200" y="3384720"/>
                      <a:ext cx="31680" cy="31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5807520" y="34160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5839200" y="3352320"/>
                    <a:ext cx="64080" cy="127800"/>
                    <a:chOff x="5839200" y="3352320"/>
                    <a:chExt cx="64080" cy="12780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5839200" y="335232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5839200" y="34484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>
                      <a:off x="5871600" y="34160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>
                      <a:off x="5871600" y="335232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57" name=""/>
            <p:cNvSpPr/>
            <p:nvPr/>
          </p:nvSpPr>
          <p:spPr>
            <a:xfrm>
              <a:off x="5164560" y="3289320"/>
              <a:ext cx="83592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5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6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5002920" y="2779560"/>
            <a:ext cx="1081800" cy="1081080"/>
            <a:chOff x="5002920" y="2779560"/>
            <a:chExt cx="1081800" cy="1081080"/>
          </a:xfrm>
        </p:grpSpPr>
        <p:grpSp>
          <p:nvGrpSpPr>
            <p:cNvPr id="1963" name=""/>
            <p:cNvGrpSpPr/>
            <p:nvPr/>
          </p:nvGrpSpPr>
          <p:grpSpPr>
            <a:xfrm>
              <a:off x="5002920" y="2779560"/>
              <a:ext cx="1081800" cy="1081080"/>
              <a:chOff x="5002920" y="2779560"/>
              <a:chExt cx="1081800" cy="1081080"/>
            </a:xfrm>
          </p:grpSpPr>
          <p:sp>
            <p:nvSpPr>
              <p:cNvPr id="1964" name=""/>
              <p:cNvSpPr/>
              <p:nvPr/>
            </p:nvSpPr>
            <p:spPr>
              <a:xfrm>
                <a:off x="5003640" y="2809080"/>
                <a:ext cx="1081080" cy="10515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5" name=""/>
              <p:cNvGrpSpPr/>
              <p:nvPr/>
            </p:nvGrpSpPr>
            <p:grpSpPr>
              <a:xfrm>
                <a:off x="5002920" y="2779560"/>
                <a:ext cx="966240" cy="896400"/>
                <a:chOff x="5002920" y="2779560"/>
                <a:chExt cx="966240" cy="89640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5154480" y="2779560"/>
                  <a:ext cx="814680" cy="67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003640" y="3257640"/>
                  <a:ext cx="905040" cy="4183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335560" y="3152880"/>
                  <a:ext cx="361800" cy="2541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154480" y="3257640"/>
                  <a:ext cx="78408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456520" y="2869200"/>
                  <a:ext cx="90360" cy="89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697360" y="3137760"/>
                  <a:ext cx="59400" cy="597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546880" y="2779560"/>
                  <a:ext cx="391680" cy="358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rot="2287200">
                  <a:off x="5305320" y="3018240"/>
                  <a:ext cx="60480" cy="179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V="1">
                  <a:off x="5335560" y="3466440"/>
                  <a:ext cx="422280" cy="179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rot="14439000">
                  <a:off x="5297040" y="3474000"/>
                  <a:ext cx="75600" cy="120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 rot="4625400">
                  <a:off x="4990320" y="3329280"/>
                  <a:ext cx="296280" cy="210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7" name=""/>
                <p:cNvGrpSpPr/>
                <p:nvPr/>
              </p:nvGrpSpPr>
              <p:grpSpPr>
                <a:xfrm>
                  <a:off x="5757840" y="3227400"/>
                  <a:ext cx="90360" cy="209520"/>
                  <a:chOff x="5757840" y="3227400"/>
                  <a:chExt cx="90360" cy="209520"/>
                </a:xfrm>
              </p:grpSpPr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5757840" y="3227400"/>
                    <a:ext cx="90360" cy="209520"/>
                    <a:chOff x="5757840" y="3227400"/>
                    <a:chExt cx="90360" cy="209520"/>
                  </a:xfrm>
                </p:grpSpPr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5757840" y="3227400"/>
                      <a:ext cx="9036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5787720" y="328716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5787720" y="334728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"/>
                    <p:cNvSpPr/>
                    <p:nvPr/>
                  </p:nvSpPr>
                  <p:spPr>
                    <a:xfrm>
                      <a:off x="5757840" y="337680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3" name=""/>
                  <p:cNvGrpSpPr/>
                  <p:nvPr/>
                </p:nvGrpSpPr>
                <p:grpSpPr>
                  <a:xfrm>
                    <a:off x="5787720" y="3317040"/>
                    <a:ext cx="60480" cy="119520"/>
                    <a:chOff x="5787720" y="3317040"/>
                    <a:chExt cx="60480" cy="119520"/>
                  </a:xfrm>
                </p:grpSpPr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5787720" y="331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5787720" y="340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5818320" y="337680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5818320" y="331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88" name=""/>
            <p:cNvSpPr/>
            <p:nvPr/>
          </p:nvSpPr>
          <p:spPr>
            <a:xfrm>
              <a:off x="5154480" y="3257640"/>
              <a:ext cx="78372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9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9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5002920" y="2779560"/>
            <a:ext cx="1009080" cy="1008000"/>
            <a:chOff x="5002920" y="2779560"/>
            <a:chExt cx="1009080" cy="1008000"/>
          </a:xfrm>
        </p:grpSpPr>
        <p:grpSp>
          <p:nvGrpSpPr>
            <p:cNvPr id="1994" name=""/>
            <p:cNvGrpSpPr/>
            <p:nvPr/>
          </p:nvGrpSpPr>
          <p:grpSpPr>
            <a:xfrm>
              <a:off x="5002920" y="2779560"/>
              <a:ext cx="1009080" cy="1008000"/>
              <a:chOff x="5002920" y="2779560"/>
              <a:chExt cx="1009080" cy="1008000"/>
            </a:xfrm>
          </p:grpSpPr>
          <p:sp>
            <p:nvSpPr>
              <p:cNvPr id="1995" name=""/>
              <p:cNvSpPr/>
              <p:nvPr/>
            </p:nvSpPr>
            <p:spPr>
              <a:xfrm>
                <a:off x="5003640" y="2806920"/>
                <a:ext cx="1008360" cy="9806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6" name=""/>
              <p:cNvGrpSpPr/>
              <p:nvPr/>
            </p:nvGrpSpPr>
            <p:grpSpPr>
              <a:xfrm>
                <a:off x="5002920" y="2779560"/>
                <a:ext cx="901080" cy="836280"/>
                <a:chOff x="5002920" y="2779560"/>
                <a:chExt cx="901080" cy="83628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5144400" y="2779560"/>
                  <a:ext cx="759600" cy="63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5003640" y="3225600"/>
                  <a:ext cx="843840" cy="3902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312880" y="3128040"/>
                  <a:ext cx="337320" cy="2372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144400" y="3225600"/>
                  <a:ext cx="731160" cy="19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425920" y="2863080"/>
                  <a:ext cx="84240" cy="83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650560" y="3113640"/>
                  <a:ext cx="55440" cy="558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510160" y="2779560"/>
                  <a:ext cx="365040" cy="334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rot="2287200">
                  <a:off x="5284800" y="3002040"/>
                  <a:ext cx="56520" cy="167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5312880" y="3420360"/>
                  <a:ext cx="393480" cy="167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rot="14439000">
                  <a:off x="5277240" y="3427560"/>
                  <a:ext cx="70560" cy="11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 flipV="1" rot="4625400">
                  <a:off x="4991040" y="3292200"/>
                  <a:ext cx="276480" cy="196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"/>
                <p:cNvGrpSpPr/>
                <p:nvPr/>
              </p:nvGrpSpPr>
              <p:grpSpPr>
                <a:xfrm>
                  <a:off x="5706720" y="3197160"/>
                  <a:ext cx="84240" cy="195480"/>
                  <a:chOff x="5706720" y="3197160"/>
                  <a:chExt cx="84240" cy="195480"/>
                </a:xfrm>
              </p:grpSpPr>
              <p:grpSp>
                <p:nvGrpSpPr>
                  <p:cNvPr id="2009" name=""/>
                  <p:cNvGrpSpPr/>
                  <p:nvPr/>
                </p:nvGrpSpPr>
                <p:grpSpPr>
                  <a:xfrm>
                    <a:off x="5706720" y="3197160"/>
                    <a:ext cx="84240" cy="195480"/>
                    <a:chOff x="5706720" y="3197160"/>
                    <a:chExt cx="84240" cy="195480"/>
                  </a:xfrm>
                </p:grpSpPr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5706720" y="3197160"/>
                      <a:ext cx="84240" cy="19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>
                      <a:off x="5734440" y="3252960"/>
                      <a:ext cx="27720" cy="27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"/>
                    <p:cNvSpPr/>
                    <p:nvPr/>
                  </p:nvSpPr>
                  <p:spPr>
                    <a:xfrm>
                      <a:off x="5734440" y="3309120"/>
                      <a:ext cx="27720" cy="27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"/>
                    <p:cNvSpPr/>
                    <p:nvPr/>
                  </p:nvSpPr>
                  <p:spPr>
                    <a:xfrm>
                      <a:off x="5706720" y="33364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4" name=""/>
                  <p:cNvGrpSpPr/>
                  <p:nvPr/>
                </p:nvGrpSpPr>
                <p:grpSpPr>
                  <a:xfrm>
                    <a:off x="5734440" y="3280680"/>
                    <a:ext cx="56160" cy="111960"/>
                    <a:chOff x="5734440" y="3280680"/>
                    <a:chExt cx="56160" cy="111960"/>
                  </a:xfrm>
                </p:grpSpPr>
                <p:sp>
                  <p:nvSpPr>
                    <p:cNvPr id="2015" name=""/>
                    <p:cNvSpPr/>
                    <p:nvPr/>
                  </p:nvSpPr>
                  <p:spPr>
                    <a:xfrm>
                      <a:off x="5734440" y="32806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5734440" y="336492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5762880" y="33364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>
                      <a:off x="5762880" y="32806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19" name=""/>
            <p:cNvSpPr/>
            <p:nvPr/>
          </p:nvSpPr>
          <p:spPr>
            <a:xfrm>
              <a:off x="5144400" y="3225600"/>
              <a:ext cx="73116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2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2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5002560" y="2779560"/>
            <a:ext cx="937800" cy="936720"/>
            <a:chOff x="5002560" y="2779560"/>
            <a:chExt cx="937800" cy="936720"/>
          </a:xfrm>
        </p:grpSpPr>
        <p:grpSp>
          <p:nvGrpSpPr>
            <p:cNvPr id="2025" name=""/>
            <p:cNvGrpSpPr/>
            <p:nvPr/>
          </p:nvGrpSpPr>
          <p:grpSpPr>
            <a:xfrm>
              <a:off x="5002560" y="2779560"/>
              <a:ext cx="937800" cy="936720"/>
              <a:chOff x="5002560" y="2779560"/>
              <a:chExt cx="937800" cy="936720"/>
            </a:xfrm>
          </p:grpSpPr>
          <p:sp>
            <p:nvSpPr>
              <p:cNvPr id="2026" name=""/>
              <p:cNvSpPr/>
              <p:nvPr/>
            </p:nvSpPr>
            <p:spPr>
              <a:xfrm>
                <a:off x="5003640" y="2805120"/>
                <a:ext cx="936720" cy="9111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7" name=""/>
              <p:cNvGrpSpPr/>
              <p:nvPr/>
            </p:nvGrpSpPr>
            <p:grpSpPr>
              <a:xfrm>
                <a:off x="5002560" y="2779560"/>
                <a:ext cx="837720" cy="776880"/>
                <a:chOff x="5002560" y="2779560"/>
                <a:chExt cx="837720" cy="77688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5134320" y="2779560"/>
                  <a:ext cx="705960" cy="586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003640" y="3193920"/>
                  <a:ext cx="784440" cy="3625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1280" y="3103200"/>
                  <a:ext cx="313200" cy="2203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134320" y="3193920"/>
                  <a:ext cx="679320" cy="18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396040" y="2856960"/>
                  <a:ext cx="78120" cy="77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604840" y="3089880"/>
                  <a:ext cx="51480" cy="518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474520" y="2779560"/>
                  <a:ext cx="339120" cy="310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2287200">
                  <a:off x="5265000" y="2986560"/>
                  <a:ext cx="52200" cy="1555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V="1">
                  <a:off x="5291280" y="3374280"/>
                  <a:ext cx="365760" cy="155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4439000">
                  <a:off x="5258160" y="3381120"/>
                  <a:ext cx="6552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H="1" flipV="1" rot="4625400">
                  <a:off x="4991040" y="3256560"/>
                  <a:ext cx="256680" cy="182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5657040" y="3167640"/>
                  <a:ext cx="78120" cy="181440"/>
                  <a:chOff x="5657040" y="3167640"/>
                  <a:chExt cx="78120" cy="181440"/>
                </a:xfrm>
              </p:grpSpPr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5657040" y="3167640"/>
                    <a:ext cx="78120" cy="181440"/>
                    <a:chOff x="5657040" y="3167640"/>
                    <a:chExt cx="78120" cy="18144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5657040" y="3167640"/>
                      <a:ext cx="7812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>
                      <a:off x="5682600" y="321948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"/>
                    <p:cNvSpPr/>
                    <p:nvPr/>
                  </p:nvSpPr>
                  <p:spPr>
                    <a:xfrm>
                      <a:off x="5682600" y="327132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5657040" y="3297240"/>
                      <a:ext cx="2556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5" name=""/>
                  <p:cNvGrpSpPr/>
                  <p:nvPr/>
                </p:nvGrpSpPr>
                <p:grpSpPr>
                  <a:xfrm>
                    <a:off x="5682960" y="3245040"/>
                    <a:ext cx="52200" cy="103680"/>
                    <a:chOff x="5682960" y="3245040"/>
                    <a:chExt cx="52200" cy="103680"/>
                  </a:xfrm>
                </p:grpSpPr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5682960" y="324504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5682960" y="332316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5709240" y="329688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>
                      <a:off x="5709240" y="324504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50" name=""/>
            <p:cNvSpPr/>
            <p:nvPr/>
          </p:nvSpPr>
          <p:spPr>
            <a:xfrm>
              <a:off x="5134320" y="3193920"/>
              <a:ext cx="67932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273680" y="3425760"/>
            <a:ext cx="3226680" cy="2688840"/>
            <a:chOff x="1273680" y="3425760"/>
            <a:chExt cx="3226680" cy="2688840"/>
          </a:xfrm>
        </p:grpSpPr>
        <p:sp>
          <p:nvSpPr>
            <p:cNvPr id="82" name=""/>
            <p:cNvSpPr/>
            <p:nvPr/>
          </p:nvSpPr>
          <p:spPr>
            <a:xfrm rot="3208800">
              <a:off x="1870920" y="4735440"/>
              <a:ext cx="240120" cy="1607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8440" y="3425760"/>
              <a:ext cx="2131920" cy="20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5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5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5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7" name=""/>
          <p:cNvGrpSpPr/>
          <p:nvPr/>
        </p:nvGrpSpPr>
        <p:grpSpPr>
          <a:xfrm>
            <a:off x="5002920" y="2779560"/>
            <a:ext cx="864360" cy="863640"/>
            <a:chOff x="5002920" y="2779560"/>
            <a:chExt cx="864360" cy="863640"/>
          </a:xfrm>
        </p:grpSpPr>
        <p:grpSp>
          <p:nvGrpSpPr>
            <p:cNvPr id="2058" name=""/>
            <p:cNvGrpSpPr/>
            <p:nvPr/>
          </p:nvGrpSpPr>
          <p:grpSpPr>
            <a:xfrm>
              <a:off x="5002920" y="2779560"/>
              <a:ext cx="864360" cy="863640"/>
              <a:chOff x="5002920" y="2779560"/>
              <a:chExt cx="864360" cy="863640"/>
            </a:xfrm>
          </p:grpSpPr>
          <p:sp>
            <p:nvSpPr>
              <p:cNvPr id="2059" name=""/>
              <p:cNvSpPr/>
              <p:nvPr/>
            </p:nvSpPr>
            <p:spPr>
              <a:xfrm>
                <a:off x="5003640" y="2802960"/>
                <a:ext cx="863640" cy="8402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0" name=""/>
              <p:cNvGrpSpPr/>
              <p:nvPr/>
            </p:nvGrpSpPr>
            <p:grpSpPr>
              <a:xfrm>
                <a:off x="5002920" y="2779560"/>
                <a:ext cx="771480" cy="716040"/>
                <a:chOff x="5002920" y="2779560"/>
                <a:chExt cx="771480" cy="71604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5123880" y="2779560"/>
                  <a:ext cx="650520" cy="5410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5003640" y="3161520"/>
                  <a:ext cx="722880" cy="3340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68600" y="3078000"/>
                  <a:ext cx="288720" cy="2030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123880" y="3161520"/>
                  <a:ext cx="626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365080" y="2851200"/>
                  <a:ext cx="72000" cy="71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5557680" y="3065760"/>
                  <a:ext cx="47520" cy="478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5437440" y="2779560"/>
                  <a:ext cx="312840" cy="286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rot="2287200">
                  <a:off x="5244120" y="2970360"/>
                  <a:ext cx="48240" cy="143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268600" y="3328560"/>
                  <a:ext cx="336960" cy="143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14439000">
                  <a:off x="5238000" y="3334680"/>
                  <a:ext cx="60480" cy="9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 rot="4625400">
                  <a:off x="4992480" y="3218760"/>
                  <a:ext cx="236880" cy="168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2" name=""/>
                <p:cNvGrpSpPr/>
                <p:nvPr/>
              </p:nvGrpSpPr>
              <p:grpSpPr>
                <a:xfrm>
                  <a:off x="5605920" y="3137400"/>
                  <a:ext cx="72000" cy="167400"/>
                  <a:chOff x="5605920" y="3137400"/>
                  <a:chExt cx="72000" cy="167400"/>
                </a:xfrm>
              </p:grpSpPr>
              <p:grpSp>
                <p:nvGrpSpPr>
                  <p:cNvPr id="2073" name=""/>
                  <p:cNvGrpSpPr/>
                  <p:nvPr/>
                </p:nvGrpSpPr>
                <p:grpSpPr>
                  <a:xfrm>
                    <a:off x="5605920" y="3137400"/>
                    <a:ext cx="72000" cy="167400"/>
                    <a:chOff x="5605920" y="3137400"/>
                    <a:chExt cx="72000" cy="167400"/>
                  </a:xfrm>
                </p:grpSpPr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5605920" y="3137400"/>
                      <a:ext cx="7200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5629680" y="3185280"/>
                      <a:ext cx="23760" cy="23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"/>
                    <p:cNvSpPr/>
                    <p:nvPr/>
                  </p:nvSpPr>
                  <p:spPr>
                    <a:xfrm>
                      <a:off x="5629680" y="3233160"/>
                      <a:ext cx="23760" cy="23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>
                      <a:off x="5605920" y="325692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"/>
                  <p:cNvGrpSpPr/>
                  <p:nvPr/>
                </p:nvGrpSpPr>
                <p:grpSpPr>
                  <a:xfrm>
                    <a:off x="5629680" y="3209040"/>
                    <a:ext cx="48240" cy="95760"/>
                    <a:chOff x="5629680" y="3209040"/>
                    <a:chExt cx="48240" cy="95760"/>
                  </a:xfrm>
                </p:grpSpPr>
                <p:sp>
                  <p:nvSpPr>
                    <p:cNvPr id="2079" name=""/>
                    <p:cNvSpPr/>
                    <p:nvPr/>
                  </p:nvSpPr>
                  <p:spPr>
                    <a:xfrm>
                      <a:off x="5629680" y="3209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>
                      <a:off x="5629680" y="3281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>
                      <a:off x="5654160" y="325692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>
                      <a:off x="5654160" y="3209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83" name=""/>
            <p:cNvSpPr/>
            <p:nvPr/>
          </p:nvSpPr>
          <p:spPr>
            <a:xfrm>
              <a:off x="5124240" y="3161520"/>
              <a:ext cx="626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8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0" name=""/>
          <p:cNvSpPr txBox="1"/>
          <p:nvPr/>
        </p:nvSpPr>
        <p:spPr>
          <a:xfrm>
            <a:off x="324000" y="260280"/>
            <a:ext cx="856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клеток состоят орга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9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9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5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6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-73080" y="-243000"/>
            <a:ext cx="921708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9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0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03" name=""/>
          <p:cNvSpPr txBox="1"/>
          <p:nvPr/>
        </p:nvSpPr>
        <p:spPr>
          <a:xfrm>
            <a:off x="0" y="189000"/>
            <a:ext cx="9144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органов состоит организ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0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0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09" name=""/>
          <p:cNvSpPr txBox="1"/>
          <p:nvPr/>
        </p:nvSpPr>
        <p:spPr>
          <a:xfrm>
            <a:off x="0" y="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Организм--это целостная система орган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способная к самостоятельном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существованию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4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1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1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1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1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1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13080" cy="303840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2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2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240000" cy="29718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2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3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168360" cy="290664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3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3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097080" cy="284148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275840" y="3378240"/>
            <a:ext cx="3296160" cy="2745360"/>
            <a:chOff x="1275840" y="3378240"/>
            <a:chExt cx="3296160" cy="2745360"/>
          </a:xfrm>
        </p:grpSpPr>
        <p:sp>
          <p:nvSpPr>
            <p:cNvPr id="86" name=""/>
            <p:cNvSpPr/>
            <p:nvPr/>
          </p:nvSpPr>
          <p:spPr>
            <a:xfrm rot="3208800">
              <a:off x="1886040" y="4715280"/>
              <a:ext cx="245160" cy="1642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94000" y="3378240"/>
              <a:ext cx="2178000" cy="210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4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4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024000" cy="2774880"/>
          </a:xfrm>
          <a:prstGeom prst="rect">
            <a:avLst/>
          </a:prstGeom>
          <a:ln w="0">
            <a:noFill/>
          </a:ln>
        </p:spPr>
      </p:pic>
      <p:sp>
        <p:nvSpPr>
          <p:cNvPr id="214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4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4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952720" cy="2709720"/>
          </a:xfrm>
          <a:prstGeom prst="rect">
            <a:avLst/>
          </a:prstGeom>
          <a:ln w="0">
            <a:noFill/>
          </a:ln>
        </p:spPr>
      </p:pic>
      <p:sp>
        <p:nvSpPr>
          <p:cNvPr id="215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5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5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879640" cy="2643120"/>
          </a:xfrm>
          <a:prstGeom prst="rect">
            <a:avLst/>
          </a:prstGeom>
          <a:ln w="0">
            <a:noFill/>
          </a:ln>
        </p:spPr>
      </p:pic>
      <p:sp>
        <p:nvSpPr>
          <p:cNvPr id="215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5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6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808000" cy="2577960"/>
          </a:xfrm>
          <a:prstGeom prst="rect">
            <a:avLst/>
          </a:prstGeom>
          <a:ln w="0">
            <a:noFill/>
          </a:ln>
        </p:spPr>
      </p:pic>
      <p:sp>
        <p:nvSpPr>
          <p:cNvPr id="216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6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6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736720" cy="251316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7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7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663640" cy="2446200"/>
          </a:xfrm>
          <a:prstGeom prst="rect">
            <a:avLst/>
          </a:prstGeom>
          <a:ln w="0">
            <a:noFill/>
          </a:ln>
        </p:spPr>
      </p:pic>
      <p:sp>
        <p:nvSpPr>
          <p:cNvPr id="217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7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7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592360" cy="2381400"/>
          </a:xfrm>
          <a:prstGeom prst="rect">
            <a:avLst/>
          </a:prstGeom>
          <a:ln w="0">
            <a:noFill/>
          </a:ln>
        </p:spPr>
      </p:pic>
      <p:sp>
        <p:nvSpPr>
          <p:cNvPr id="218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8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8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520720" cy="2316240"/>
          </a:xfrm>
          <a:prstGeom prst="rect">
            <a:avLst/>
          </a:prstGeom>
          <a:ln w="0">
            <a:noFill/>
          </a:ln>
        </p:spPr>
      </p:pic>
      <p:sp>
        <p:nvSpPr>
          <p:cNvPr id="218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8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9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447640" cy="2249640"/>
          </a:xfrm>
          <a:prstGeom prst="rect">
            <a:avLst/>
          </a:prstGeom>
          <a:ln w="0">
            <a:noFill/>
          </a:ln>
        </p:spPr>
      </p:pic>
      <p:sp>
        <p:nvSpPr>
          <p:cNvPr id="219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9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9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76360" cy="2184480"/>
          </a:xfrm>
          <a:prstGeom prst="rect">
            <a:avLst/>
          </a:prstGeom>
          <a:ln w="0">
            <a:noFill/>
          </a:ln>
        </p:spPr>
      </p:pic>
      <p:sp>
        <p:nvSpPr>
          <p:cNvPr id="219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277640" y="3330720"/>
            <a:ext cx="3365280" cy="2802960"/>
            <a:chOff x="1277640" y="3330720"/>
            <a:chExt cx="3365280" cy="2802960"/>
          </a:xfrm>
        </p:grpSpPr>
        <p:sp>
          <p:nvSpPr>
            <p:cNvPr id="90" name=""/>
            <p:cNvSpPr/>
            <p:nvPr/>
          </p:nvSpPr>
          <p:spPr>
            <a:xfrm rot="3208800">
              <a:off x="1900440" y="4695480"/>
              <a:ext cx="250200" cy="1676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19200" y="3330720"/>
              <a:ext cx="2223720" cy="214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0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0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04720" cy="2119320"/>
          </a:xfrm>
          <a:prstGeom prst="rect">
            <a:avLst/>
          </a:prstGeom>
          <a:ln w="0">
            <a:noFill/>
          </a:ln>
        </p:spPr>
      </p:pic>
      <p:sp>
        <p:nvSpPr>
          <p:cNvPr id="220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0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0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232000" cy="2052720"/>
          </a:xfrm>
          <a:prstGeom prst="rect">
            <a:avLst/>
          </a:prstGeom>
          <a:ln w="0">
            <a:noFill/>
          </a:ln>
        </p:spPr>
      </p:pic>
      <p:sp>
        <p:nvSpPr>
          <p:cNvPr id="221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160360" cy="1987560"/>
          </a:xfrm>
          <a:prstGeom prst="rect">
            <a:avLst/>
          </a:prstGeom>
          <a:ln w="0">
            <a:noFill/>
          </a:ln>
        </p:spPr>
      </p:pic>
      <p:sp>
        <p:nvSpPr>
          <p:cNvPr id="221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1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2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087280" cy="1920960"/>
          </a:xfrm>
          <a:prstGeom prst="rect">
            <a:avLst/>
          </a:prstGeom>
          <a:ln w="0">
            <a:noFill/>
          </a:ln>
        </p:spPr>
      </p:pic>
      <p:sp>
        <p:nvSpPr>
          <p:cNvPr id="222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2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2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016000" cy="1855800"/>
          </a:xfrm>
          <a:prstGeom prst="rect">
            <a:avLst/>
          </a:prstGeom>
          <a:ln w="0">
            <a:noFill/>
          </a:ln>
        </p:spPr>
      </p:pic>
      <p:sp>
        <p:nvSpPr>
          <p:cNvPr id="222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3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3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944360" cy="179064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3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3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4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4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6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4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2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5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5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5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8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79080" y="3281400"/>
            <a:ext cx="3437280" cy="2862720"/>
            <a:chOff x="1279080" y="3281400"/>
            <a:chExt cx="3437280" cy="2862720"/>
          </a:xfrm>
        </p:grpSpPr>
        <p:sp>
          <p:nvSpPr>
            <p:cNvPr id="94" name=""/>
            <p:cNvSpPr/>
            <p:nvPr/>
          </p:nvSpPr>
          <p:spPr>
            <a:xfrm rot="3208800">
              <a:off x="1915200" y="4675680"/>
              <a:ext cx="255600" cy="1712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45480" y="3281400"/>
              <a:ext cx="2270880" cy="21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6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6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800000" cy="165888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6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6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0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728720" cy="1593720"/>
          </a:xfrm>
          <a:prstGeom prst="rect">
            <a:avLst/>
          </a:prstGeom>
          <a:ln w="0">
            <a:noFill/>
          </a:ln>
        </p:spPr>
      </p:pic>
      <p:sp>
        <p:nvSpPr>
          <p:cNvPr id="227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7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7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6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728720" cy="1593720"/>
          </a:xfrm>
          <a:prstGeom prst="rect">
            <a:avLst/>
          </a:prstGeom>
          <a:ln w="0">
            <a:noFill/>
          </a:ln>
        </p:spPr>
      </p:pic>
      <p:sp>
        <p:nvSpPr>
          <p:cNvPr id="227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7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8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2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655640" cy="1527120"/>
          </a:xfrm>
          <a:prstGeom prst="rect">
            <a:avLst/>
          </a:prstGeom>
          <a:ln w="0">
            <a:noFill/>
          </a:ln>
        </p:spPr>
      </p:pic>
      <p:sp>
        <p:nvSpPr>
          <p:cNvPr id="228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8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584000" cy="1460520"/>
          </a:xfrm>
          <a:prstGeom prst="rect">
            <a:avLst/>
          </a:prstGeom>
          <a:ln w="0">
            <a:noFill/>
          </a:ln>
        </p:spPr>
      </p:pic>
      <p:sp>
        <p:nvSpPr>
          <p:cNvPr id="228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9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9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512720" cy="1395360"/>
          </a:xfrm>
          <a:prstGeom prst="rect">
            <a:avLst/>
          </a:prstGeom>
          <a:ln w="0">
            <a:noFill/>
          </a:ln>
        </p:spPr>
      </p:pic>
      <p:sp>
        <p:nvSpPr>
          <p:cNvPr id="229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9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9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0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2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3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4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5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06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7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8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9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0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1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771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6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7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8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19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0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21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2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23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24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5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6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2327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опуляция--это группа 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одного вида,проживающая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на одной терри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9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6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5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2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3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2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3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4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35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6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37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8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39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40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41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42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2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7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2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7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7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4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4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280880" y="3233880"/>
            <a:ext cx="3507120" cy="2919600"/>
            <a:chOff x="1280880" y="3233880"/>
            <a:chExt cx="3507120" cy="2919600"/>
          </a:xfrm>
        </p:grpSpPr>
        <p:sp>
          <p:nvSpPr>
            <p:cNvPr id="98" name=""/>
            <p:cNvSpPr/>
            <p:nvPr/>
          </p:nvSpPr>
          <p:spPr>
            <a:xfrm rot="3208800">
              <a:off x="1929960" y="4655160"/>
              <a:ext cx="260640" cy="1747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1040" y="3233880"/>
              <a:ext cx="2316960" cy="22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48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2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3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8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9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0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3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4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9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0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5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6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3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3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6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1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3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4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8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9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62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6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1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0" y="2349360"/>
            <a:ext cx="16444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1763640" y="2349360"/>
            <a:ext cx="1619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64000" y="2349360"/>
            <a:ext cx="169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5508720" y="2421000"/>
            <a:ext cx="16192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7308720" y="2421000"/>
            <a:ext cx="18352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18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19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28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3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54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55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65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66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74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75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83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84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93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102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12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3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21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2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30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1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39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0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7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48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9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283040" y="3186000"/>
            <a:ext cx="3575880" cy="2977560"/>
            <a:chOff x="1283040" y="3186000"/>
            <a:chExt cx="3575880" cy="2977560"/>
          </a:xfrm>
        </p:grpSpPr>
        <p:sp>
          <p:nvSpPr>
            <p:cNvPr id="102" name=""/>
            <p:cNvSpPr/>
            <p:nvPr/>
          </p:nvSpPr>
          <p:spPr>
            <a:xfrm rot="3208800">
              <a:off x="1945080" y="4635360"/>
              <a:ext cx="265680" cy="1782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6240" y="3186000"/>
              <a:ext cx="2362680" cy="228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285200" y="3137040"/>
            <a:ext cx="3647160" cy="3036240"/>
            <a:chOff x="1285200" y="3137040"/>
            <a:chExt cx="3647160" cy="3036240"/>
          </a:xfrm>
        </p:grpSpPr>
        <p:sp>
          <p:nvSpPr>
            <p:cNvPr id="106" name=""/>
            <p:cNvSpPr/>
            <p:nvPr/>
          </p:nvSpPr>
          <p:spPr>
            <a:xfrm rot="3208800">
              <a:off x="1960560" y="4614840"/>
              <a:ext cx="271080" cy="1817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22520" y="3137040"/>
              <a:ext cx="2409840" cy="23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287000" y="3089160"/>
            <a:ext cx="3716280" cy="3094200"/>
            <a:chOff x="1287000" y="3089160"/>
            <a:chExt cx="3716280" cy="3094200"/>
          </a:xfrm>
        </p:grpSpPr>
        <p:sp>
          <p:nvSpPr>
            <p:cNvPr id="110" name=""/>
            <p:cNvSpPr/>
            <p:nvPr/>
          </p:nvSpPr>
          <p:spPr>
            <a:xfrm rot="3208800">
              <a:off x="1974960" y="4595040"/>
              <a:ext cx="276120" cy="1851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7720" y="3089160"/>
              <a:ext cx="2455560" cy="237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88440" y="3040200"/>
            <a:ext cx="3787920" cy="3153240"/>
            <a:chOff x="1288440" y="3040200"/>
            <a:chExt cx="3787920" cy="3153240"/>
          </a:xfrm>
        </p:grpSpPr>
        <p:sp>
          <p:nvSpPr>
            <p:cNvPr id="114" name=""/>
            <p:cNvSpPr/>
            <p:nvPr/>
          </p:nvSpPr>
          <p:spPr>
            <a:xfrm rot="3208800">
              <a:off x="1989720" y="4574520"/>
              <a:ext cx="281520" cy="1887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73640" y="3040200"/>
              <a:ext cx="25027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189000"/>
            <a:ext cx="8496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290240" y="2992320"/>
            <a:ext cx="3857760" cy="3210840"/>
            <a:chOff x="1290240" y="2992320"/>
            <a:chExt cx="3857760" cy="3210840"/>
          </a:xfrm>
        </p:grpSpPr>
        <p:sp>
          <p:nvSpPr>
            <p:cNvPr id="118" name=""/>
            <p:cNvSpPr/>
            <p:nvPr/>
          </p:nvSpPr>
          <p:spPr>
            <a:xfrm rot="3208800">
              <a:off x="2004480" y="4554720"/>
              <a:ext cx="286560" cy="19220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9200" y="2992320"/>
              <a:ext cx="2548800" cy="246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292040" y="2944800"/>
            <a:ext cx="3927240" cy="3268080"/>
            <a:chOff x="1292040" y="2944800"/>
            <a:chExt cx="3927240" cy="3268080"/>
          </a:xfrm>
        </p:grpSpPr>
        <p:sp>
          <p:nvSpPr>
            <p:cNvPr id="122" name=""/>
            <p:cNvSpPr/>
            <p:nvPr/>
          </p:nvSpPr>
          <p:spPr>
            <a:xfrm rot="3208800">
              <a:off x="2019240" y="4535280"/>
              <a:ext cx="291600" cy="1956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4760" y="2944800"/>
              <a:ext cx="2594520" cy="250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294920" y="2895480"/>
            <a:ext cx="3997440" cy="3327120"/>
            <a:chOff x="1294920" y="2895480"/>
            <a:chExt cx="3997440" cy="3327120"/>
          </a:xfrm>
        </p:grpSpPr>
        <p:sp>
          <p:nvSpPr>
            <p:cNvPr id="126" name=""/>
            <p:cNvSpPr/>
            <p:nvPr/>
          </p:nvSpPr>
          <p:spPr>
            <a:xfrm rot="3208800">
              <a:off x="2035080" y="4514400"/>
              <a:ext cx="297000" cy="1992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0680" y="2895480"/>
              <a:ext cx="2641680" cy="25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296360" y="2847960"/>
            <a:ext cx="4067280" cy="3384720"/>
            <a:chOff x="1296360" y="2847960"/>
            <a:chExt cx="4067280" cy="3384720"/>
          </a:xfrm>
        </p:grpSpPr>
        <p:sp>
          <p:nvSpPr>
            <p:cNvPr id="130" name=""/>
            <p:cNvSpPr/>
            <p:nvPr/>
          </p:nvSpPr>
          <p:spPr>
            <a:xfrm rot="3208800">
              <a:off x="2049480" y="4494600"/>
              <a:ext cx="302040" cy="2026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6240" y="2847960"/>
              <a:ext cx="2687400" cy="259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298160" y="2800440"/>
            <a:ext cx="4137480" cy="3442320"/>
            <a:chOff x="1298160" y="2800440"/>
            <a:chExt cx="4137480" cy="3442320"/>
          </a:xfrm>
        </p:grpSpPr>
        <p:sp>
          <p:nvSpPr>
            <p:cNvPr id="134" name=""/>
            <p:cNvSpPr/>
            <p:nvPr/>
          </p:nvSpPr>
          <p:spPr>
            <a:xfrm rot="3208800">
              <a:off x="2064240" y="4474800"/>
              <a:ext cx="307440" cy="2061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1800" y="2800440"/>
              <a:ext cx="2733840" cy="26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1299960" y="2751120"/>
            <a:ext cx="4208400" cy="3501360"/>
            <a:chOff x="1299960" y="2751120"/>
            <a:chExt cx="4208400" cy="3501360"/>
          </a:xfrm>
        </p:grpSpPr>
        <p:sp>
          <p:nvSpPr>
            <p:cNvPr id="138" name=""/>
            <p:cNvSpPr/>
            <p:nvPr/>
          </p:nvSpPr>
          <p:spPr>
            <a:xfrm rot="3208800">
              <a:off x="2079000" y="4454280"/>
              <a:ext cx="312480" cy="2097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7720" y="2751120"/>
              <a:ext cx="2780640" cy="268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01760" y="2703600"/>
            <a:ext cx="4278240" cy="3558960"/>
            <a:chOff x="1301760" y="2703600"/>
            <a:chExt cx="4278240" cy="3558960"/>
          </a:xfrm>
        </p:grpSpPr>
        <p:sp>
          <p:nvSpPr>
            <p:cNvPr id="142" name=""/>
            <p:cNvSpPr/>
            <p:nvPr/>
          </p:nvSpPr>
          <p:spPr>
            <a:xfrm rot="3208800">
              <a:off x="2093760" y="4434840"/>
              <a:ext cx="317880" cy="2131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53280" y="2703600"/>
              <a:ext cx="2826720" cy="272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304280" y="2655720"/>
            <a:ext cx="4347360" cy="3616560"/>
            <a:chOff x="1304280" y="2655720"/>
            <a:chExt cx="4347360" cy="3616560"/>
          </a:xfrm>
        </p:grpSpPr>
        <p:sp>
          <p:nvSpPr>
            <p:cNvPr id="146" name=""/>
            <p:cNvSpPr/>
            <p:nvPr/>
          </p:nvSpPr>
          <p:spPr>
            <a:xfrm rot="3208800">
              <a:off x="2109240" y="4414680"/>
              <a:ext cx="322920" cy="2166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8840" y="2655720"/>
              <a:ext cx="2872800" cy="27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306080" y="2606760"/>
            <a:ext cx="4418280" cy="3675600"/>
            <a:chOff x="1306080" y="2606760"/>
            <a:chExt cx="4418280" cy="3675600"/>
          </a:xfrm>
        </p:grpSpPr>
        <p:sp>
          <p:nvSpPr>
            <p:cNvPr id="150" name=""/>
            <p:cNvSpPr/>
            <p:nvPr/>
          </p:nvSpPr>
          <p:spPr>
            <a:xfrm rot="3208800">
              <a:off x="2124360" y="4394160"/>
              <a:ext cx="327960" cy="2201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4760" y="2606760"/>
              <a:ext cx="2919600" cy="28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307880" y="2558880"/>
            <a:ext cx="4488120" cy="3733560"/>
            <a:chOff x="1307880" y="2558880"/>
            <a:chExt cx="4488120" cy="3733560"/>
          </a:xfrm>
        </p:grpSpPr>
        <p:sp>
          <p:nvSpPr>
            <p:cNvPr id="154" name=""/>
            <p:cNvSpPr/>
            <p:nvPr/>
          </p:nvSpPr>
          <p:spPr>
            <a:xfrm rot="3208800">
              <a:off x="2138760" y="4374720"/>
              <a:ext cx="333360" cy="223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0320" y="2558880"/>
              <a:ext cx="2965680" cy="28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5400000">
            <a:off x="-2205000" y="2960640"/>
            <a:ext cx="6858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это такое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309680" y="2511360"/>
            <a:ext cx="4557240" cy="3790080"/>
            <a:chOff x="1309680" y="2511360"/>
            <a:chExt cx="4557240" cy="3790080"/>
          </a:xfrm>
        </p:grpSpPr>
        <p:sp>
          <p:nvSpPr>
            <p:cNvPr id="158" name=""/>
            <p:cNvSpPr/>
            <p:nvPr/>
          </p:nvSpPr>
          <p:spPr>
            <a:xfrm rot="3208800">
              <a:off x="2153160" y="4354200"/>
              <a:ext cx="338400" cy="2270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55520" y="2511360"/>
              <a:ext cx="3011400" cy="290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311120" y="2462040"/>
            <a:ext cx="4629240" cy="3850200"/>
            <a:chOff x="1311120" y="2462040"/>
            <a:chExt cx="4629240" cy="3850200"/>
          </a:xfrm>
        </p:grpSpPr>
        <p:sp>
          <p:nvSpPr>
            <p:cNvPr id="162" name=""/>
            <p:cNvSpPr/>
            <p:nvPr/>
          </p:nvSpPr>
          <p:spPr>
            <a:xfrm rot="3208800">
              <a:off x="2168280" y="4334400"/>
              <a:ext cx="343800" cy="23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81800" y="2462040"/>
              <a:ext cx="3058560" cy="295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313280" y="2414520"/>
            <a:ext cx="4698720" cy="3907080"/>
            <a:chOff x="1313280" y="2414520"/>
            <a:chExt cx="4698720" cy="3907080"/>
          </a:xfrm>
        </p:grpSpPr>
        <p:sp>
          <p:nvSpPr>
            <p:cNvPr id="166" name=""/>
            <p:cNvSpPr/>
            <p:nvPr/>
          </p:nvSpPr>
          <p:spPr>
            <a:xfrm rot="3208800">
              <a:off x="2183040" y="4313880"/>
              <a:ext cx="348840" cy="2341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7360" y="2414520"/>
              <a:ext cx="3104640" cy="29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314720" y="2365200"/>
            <a:ext cx="4770000" cy="3966840"/>
            <a:chOff x="1314720" y="2365200"/>
            <a:chExt cx="4770000" cy="3966840"/>
          </a:xfrm>
        </p:grpSpPr>
        <p:sp>
          <p:nvSpPr>
            <p:cNvPr id="170" name=""/>
            <p:cNvSpPr/>
            <p:nvPr/>
          </p:nvSpPr>
          <p:spPr>
            <a:xfrm rot="3208800">
              <a:off x="2197800" y="4294440"/>
              <a:ext cx="354240" cy="2376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280" y="2365200"/>
              <a:ext cx="3151440" cy="304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316880" y="2317680"/>
            <a:ext cx="4839480" cy="4023720"/>
            <a:chOff x="1316880" y="2317680"/>
            <a:chExt cx="4839480" cy="4023720"/>
          </a:xfrm>
        </p:grpSpPr>
        <p:sp>
          <p:nvSpPr>
            <p:cNvPr id="174" name=""/>
            <p:cNvSpPr/>
            <p:nvPr/>
          </p:nvSpPr>
          <p:spPr>
            <a:xfrm rot="3208800">
              <a:off x="2212920" y="4273920"/>
              <a:ext cx="359280" cy="2411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8840" y="2317680"/>
              <a:ext cx="3197520" cy="30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319040" y="2270160"/>
            <a:ext cx="4908240" cy="4080960"/>
            <a:chOff x="1319040" y="2270160"/>
            <a:chExt cx="4908240" cy="4080960"/>
          </a:xfrm>
        </p:grpSpPr>
        <p:sp>
          <p:nvSpPr>
            <p:cNvPr id="178" name=""/>
            <p:cNvSpPr/>
            <p:nvPr/>
          </p:nvSpPr>
          <p:spPr>
            <a:xfrm rot="3208800">
              <a:off x="2228040" y="4254120"/>
              <a:ext cx="364320" cy="2445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4040" y="2270160"/>
              <a:ext cx="3243240" cy="31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320840" y="2220840"/>
            <a:ext cx="4979880" cy="4140720"/>
            <a:chOff x="1320840" y="2220840"/>
            <a:chExt cx="4979880" cy="4140720"/>
          </a:xfrm>
        </p:grpSpPr>
        <p:sp>
          <p:nvSpPr>
            <p:cNvPr id="182" name=""/>
            <p:cNvSpPr/>
            <p:nvPr/>
          </p:nvSpPr>
          <p:spPr>
            <a:xfrm rot="3208800">
              <a:off x="2242800" y="4233960"/>
              <a:ext cx="369720" cy="2481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10320" y="2220840"/>
              <a:ext cx="3290400" cy="317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322280" y="2173320"/>
            <a:ext cx="5050080" cy="4197960"/>
            <a:chOff x="1322280" y="2173320"/>
            <a:chExt cx="5050080" cy="4197960"/>
          </a:xfrm>
        </p:grpSpPr>
        <p:sp>
          <p:nvSpPr>
            <p:cNvPr id="186" name=""/>
            <p:cNvSpPr/>
            <p:nvPr/>
          </p:nvSpPr>
          <p:spPr>
            <a:xfrm rot="3208800">
              <a:off x="2257200" y="4213800"/>
              <a:ext cx="374760" cy="25160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5880" y="2173320"/>
              <a:ext cx="3336480" cy="321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324440" y="2125800"/>
            <a:ext cx="5118840" cy="4255200"/>
            <a:chOff x="1324440" y="2125800"/>
            <a:chExt cx="5118840" cy="4255200"/>
          </a:xfrm>
        </p:grpSpPr>
        <p:sp>
          <p:nvSpPr>
            <p:cNvPr id="190" name=""/>
            <p:cNvSpPr/>
            <p:nvPr/>
          </p:nvSpPr>
          <p:spPr>
            <a:xfrm rot="3208800">
              <a:off x="2272320" y="4194000"/>
              <a:ext cx="379800" cy="2550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1080" y="2125800"/>
              <a:ext cx="3382200" cy="326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326600" y="2076480"/>
            <a:ext cx="5189760" cy="4314240"/>
            <a:chOff x="1326600" y="2076480"/>
            <a:chExt cx="5189760" cy="4314240"/>
          </a:xfrm>
        </p:grpSpPr>
        <p:sp>
          <p:nvSpPr>
            <p:cNvPr id="194" name=""/>
            <p:cNvSpPr/>
            <p:nvPr/>
          </p:nvSpPr>
          <p:spPr>
            <a:xfrm rot="3208800">
              <a:off x="2287440" y="4173120"/>
              <a:ext cx="385200" cy="2586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7000" y="2076480"/>
              <a:ext cx="3429360" cy="330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26920" y="4365720"/>
            <a:ext cx="763272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смотри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подробнее!!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1328400" y="2028960"/>
            <a:ext cx="5259240" cy="4371840"/>
            <a:chOff x="1328400" y="2028960"/>
            <a:chExt cx="5259240" cy="4371840"/>
          </a:xfrm>
        </p:grpSpPr>
        <p:sp>
          <p:nvSpPr>
            <p:cNvPr id="198" name=""/>
            <p:cNvSpPr/>
            <p:nvPr/>
          </p:nvSpPr>
          <p:spPr>
            <a:xfrm rot="3208800">
              <a:off x="2302560" y="4153320"/>
              <a:ext cx="390240" cy="262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2560" y="2028960"/>
              <a:ext cx="3475080" cy="335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330200" y="1981080"/>
            <a:ext cx="5329080" cy="4429440"/>
            <a:chOff x="1330200" y="1981080"/>
            <a:chExt cx="5329080" cy="4429440"/>
          </a:xfrm>
        </p:grpSpPr>
        <p:sp>
          <p:nvSpPr>
            <p:cNvPr id="202" name=""/>
            <p:cNvSpPr/>
            <p:nvPr/>
          </p:nvSpPr>
          <p:spPr>
            <a:xfrm rot="3208800">
              <a:off x="2316960" y="4133520"/>
              <a:ext cx="395280" cy="2655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8120" y="1981080"/>
              <a:ext cx="3521160" cy="33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1332000" y="1932120"/>
            <a:ext cx="5400360" cy="4488480"/>
            <a:chOff x="1332000" y="1932120"/>
            <a:chExt cx="5400360" cy="4488480"/>
          </a:xfrm>
        </p:grpSpPr>
        <p:sp>
          <p:nvSpPr>
            <p:cNvPr id="206" name=""/>
            <p:cNvSpPr/>
            <p:nvPr/>
          </p:nvSpPr>
          <p:spPr>
            <a:xfrm rot="3208800">
              <a:off x="2332080" y="4113000"/>
              <a:ext cx="400680" cy="2691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64040" y="1932120"/>
              <a:ext cx="3568320" cy="344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334160" y="1884240"/>
            <a:ext cx="5469480" cy="4546080"/>
            <a:chOff x="1334160" y="1884240"/>
            <a:chExt cx="5469480" cy="4546080"/>
          </a:xfrm>
        </p:grpSpPr>
        <p:sp>
          <p:nvSpPr>
            <p:cNvPr id="210" name=""/>
            <p:cNvSpPr/>
            <p:nvPr/>
          </p:nvSpPr>
          <p:spPr>
            <a:xfrm rot="3208800">
              <a:off x="2346840" y="4093560"/>
              <a:ext cx="405720" cy="2725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0" y="1884240"/>
              <a:ext cx="3614040" cy="348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335600" y="1835280"/>
            <a:ext cx="5541120" cy="4605120"/>
            <a:chOff x="1335600" y="1835280"/>
            <a:chExt cx="5541120" cy="4605120"/>
          </a:xfrm>
        </p:grpSpPr>
        <p:sp>
          <p:nvSpPr>
            <p:cNvPr id="214" name=""/>
            <p:cNvSpPr/>
            <p:nvPr/>
          </p:nvSpPr>
          <p:spPr>
            <a:xfrm rot="3208800">
              <a:off x="2361600" y="4073040"/>
              <a:ext cx="411120" cy="2760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5520" y="1835280"/>
              <a:ext cx="3661200" cy="352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337760" y="1787400"/>
            <a:ext cx="5610240" cy="4662720"/>
            <a:chOff x="1337760" y="1787400"/>
            <a:chExt cx="5610240" cy="4662720"/>
          </a:xfrm>
        </p:grpSpPr>
        <p:sp>
          <p:nvSpPr>
            <p:cNvPr id="218" name=""/>
            <p:cNvSpPr/>
            <p:nvPr/>
          </p:nvSpPr>
          <p:spPr>
            <a:xfrm rot="3208800">
              <a:off x="2376360" y="4053240"/>
              <a:ext cx="416160" cy="27954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1080" y="1787400"/>
              <a:ext cx="3706920" cy="357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339920" y="1739880"/>
            <a:ext cx="5679720" cy="4720320"/>
            <a:chOff x="1339920" y="1739880"/>
            <a:chExt cx="5679720" cy="4720320"/>
          </a:xfrm>
        </p:grpSpPr>
        <p:sp>
          <p:nvSpPr>
            <p:cNvPr id="222" name=""/>
            <p:cNvSpPr/>
            <p:nvPr/>
          </p:nvSpPr>
          <p:spPr>
            <a:xfrm rot="3208800">
              <a:off x="2391480" y="4033440"/>
              <a:ext cx="421200" cy="2830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66640" y="1739880"/>
              <a:ext cx="3753000" cy="361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341720" y="1690560"/>
            <a:ext cx="5751000" cy="4779360"/>
            <a:chOff x="1341720" y="1690560"/>
            <a:chExt cx="5751000" cy="4779360"/>
          </a:xfrm>
        </p:grpSpPr>
        <p:sp>
          <p:nvSpPr>
            <p:cNvPr id="226" name=""/>
            <p:cNvSpPr/>
            <p:nvPr/>
          </p:nvSpPr>
          <p:spPr>
            <a:xfrm rot="3208800">
              <a:off x="2406600" y="4012920"/>
              <a:ext cx="426600" cy="2865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2560" y="1690560"/>
              <a:ext cx="3800160" cy="36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343520" y="1643040"/>
            <a:ext cx="5820480" cy="4836960"/>
            <a:chOff x="1343520" y="1643040"/>
            <a:chExt cx="5820480" cy="4836960"/>
          </a:xfrm>
        </p:grpSpPr>
        <p:sp>
          <p:nvSpPr>
            <p:cNvPr id="230" name=""/>
            <p:cNvSpPr/>
            <p:nvPr/>
          </p:nvSpPr>
          <p:spPr>
            <a:xfrm rot="3208800">
              <a:off x="2421360" y="3993120"/>
              <a:ext cx="431640" cy="2900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18120" y="1643040"/>
              <a:ext cx="3845880" cy="370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344960" y="1595520"/>
            <a:ext cx="5890680" cy="4894920"/>
            <a:chOff x="1344960" y="1595520"/>
            <a:chExt cx="5890680" cy="4894920"/>
          </a:xfrm>
        </p:grpSpPr>
        <p:sp>
          <p:nvSpPr>
            <p:cNvPr id="234" name=""/>
            <p:cNvSpPr/>
            <p:nvPr/>
          </p:nvSpPr>
          <p:spPr>
            <a:xfrm rot="3208800">
              <a:off x="2435760" y="3973680"/>
              <a:ext cx="437040" cy="2935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3680" y="1595520"/>
              <a:ext cx="3891960" cy="37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263960" y="3716280"/>
            <a:ext cx="2839680" cy="2343960"/>
            <a:chOff x="1263960" y="3716280"/>
            <a:chExt cx="2839680" cy="2343960"/>
          </a:xfrm>
        </p:grpSpPr>
        <p:sp>
          <p:nvSpPr>
            <p:cNvPr id="55" name=""/>
            <p:cNvSpPr/>
            <p:nvPr/>
          </p:nvSpPr>
          <p:spPr>
            <a:xfrm rot="3208800">
              <a:off x="1790280" y="4847760"/>
              <a:ext cx="208800" cy="1415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26960" y="3716280"/>
              <a:ext cx="1876680" cy="179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71640" y="2276640"/>
            <a:ext cx="1871640" cy="1439640"/>
            <a:chOff x="971640" y="2276640"/>
            <a:chExt cx="1871640" cy="1439640"/>
          </a:xfrm>
        </p:grpSpPr>
        <p:sp>
          <p:nvSpPr>
            <p:cNvPr id="58" name=""/>
            <p:cNvSpPr/>
            <p:nvPr/>
          </p:nvSpPr>
          <p:spPr>
            <a:xfrm>
              <a:off x="1043280" y="2924280"/>
              <a:ext cx="1800000" cy="792000"/>
            </a:xfrm>
            <a:custGeom>
              <a:avLst/>
              <a:gdLst/>
              <a:ahLst/>
              <a:rect l="l" t="t" r="r" b="b"/>
              <a:pathLst>
                <a:path w="1134" h="499">
                  <a:moveTo>
                    <a:pt x="1134" y="499"/>
                  </a:moveTo>
                  <a:lnTo>
                    <a:pt x="7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971640" y="2276640"/>
              <a:ext cx="12956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уп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347120" y="1546200"/>
            <a:ext cx="5961240" cy="4953600"/>
            <a:chOff x="1347120" y="1546200"/>
            <a:chExt cx="5961240" cy="4953600"/>
          </a:xfrm>
        </p:grpSpPr>
        <p:sp>
          <p:nvSpPr>
            <p:cNvPr id="238" name=""/>
            <p:cNvSpPr/>
            <p:nvPr/>
          </p:nvSpPr>
          <p:spPr>
            <a:xfrm rot="3208800">
              <a:off x="2450880" y="3953160"/>
              <a:ext cx="442080" cy="2970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9600" y="1546200"/>
              <a:ext cx="3938760" cy="379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349280" y="1498680"/>
            <a:ext cx="6030720" cy="5010840"/>
            <a:chOff x="1349280" y="1498680"/>
            <a:chExt cx="6030720" cy="5010840"/>
          </a:xfrm>
        </p:grpSpPr>
        <p:sp>
          <p:nvSpPr>
            <p:cNvPr id="242" name=""/>
            <p:cNvSpPr/>
            <p:nvPr/>
          </p:nvSpPr>
          <p:spPr>
            <a:xfrm rot="3208800">
              <a:off x="2466360" y="3933000"/>
              <a:ext cx="447120" cy="3005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95160" y="1498680"/>
              <a:ext cx="3984840" cy="384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1351080" y="1450800"/>
            <a:ext cx="6100200" cy="5068440"/>
            <a:chOff x="1351080" y="1450800"/>
            <a:chExt cx="6100200" cy="5068440"/>
          </a:xfrm>
        </p:grpSpPr>
        <p:sp>
          <p:nvSpPr>
            <p:cNvPr id="246" name=""/>
            <p:cNvSpPr/>
            <p:nvPr/>
          </p:nvSpPr>
          <p:spPr>
            <a:xfrm rot="3208800">
              <a:off x="2480760" y="3912840"/>
              <a:ext cx="452520" cy="3039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0360" y="1450800"/>
              <a:ext cx="4030920" cy="388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-36360" y="-27000"/>
            <a:ext cx="90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ый низший уровень Биосфер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екулярный уровен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00720" y="1989000"/>
            <a:ext cx="2233440" cy="2881080"/>
            <a:chOff x="4500720" y="1989000"/>
            <a:chExt cx="2233440" cy="2881080"/>
          </a:xfrm>
        </p:grpSpPr>
        <p:sp>
          <p:nvSpPr>
            <p:cNvPr id="254" name=""/>
            <p:cNvSpPr/>
            <p:nvPr/>
          </p:nvSpPr>
          <p:spPr>
            <a:xfrm flipH="1">
              <a:off x="6300720" y="2493720"/>
              <a:ext cx="144360" cy="36036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500720" y="1989000"/>
              <a:ext cx="2233440" cy="2881080"/>
              <a:chOff x="4500720" y="1989000"/>
              <a:chExt cx="2233440" cy="2881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156360" y="2133360"/>
                <a:ext cx="36036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01080" y="2997000"/>
                <a:ext cx="287280" cy="217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653080" y="2925360"/>
                <a:ext cx="503280" cy="14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37080" y="3141360"/>
                <a:ext cx="142920" cy="720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5005440" y="2780640"/>
                <a:ext cx="503280" cy="289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005080" y="2349360"/>
                <a:ext cx="71640" cy="36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5508360" y="3933000"/>
                <a:ext cx="360360" cy="73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005080" y="3933360"/>
                <a:ext cx="35892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4645080" y="3862080"/>
                <a:ext cx="2872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787640" y="4222440"/>
                <a:ext cx="144360" cy="35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05440" y="220644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6000" y="3933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00720" y="371772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45440" y="3070080"/>
                <a:ext cx="288720" cy="288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61080" y="263808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85080" y="2709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61080" y="400644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00720" y="4438440"/>
                <a:ext cx="431640" cy="43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37440" y="2925360"/>
                <a:ext cx="358560" cy="35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53080" y="292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292720" y="3717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05440" y="400644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72360" y="227772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3440" y="198900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8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00720" y="1989000"/>
            <a:ext cx="2233440" cy="2881080"/>
            <a:chOff x="4500720" y="1989000"/>
            <a:chExt cx="2233440" cy="2881080"/>
          </a:xfrm>
        </p:grpSpPr>
        <p:sp>
          <p:nvSpPr>
            <p:cNvPr id="285" name=""/>
            <p:cNvSpPr/>
            <p:nvPr/>
          </p:nvSpPr>
          <p:spPr>
            <a:xfrm flipH="1">
              <a:off x="6300720" y="2493720"/>
              <a:ext cx="144360" cy="36036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500720" y="1989000"/>
              <a:ext cx="2233440" cy="2881080"/>
              <a:chOff x="4500720" y="1989000"/>
              <a:chExt cx="2233440" cy="2881080"/>
            </a:xfrm>
          </p:grpSpPr>
          <p:sp>
            <p:nvSpPr>
              <p:cNvPr id="287" name=""/>
              <p:cNvSpPr/>
              <p:nvPr/>
            </p:nvSpPr>
            <p:spPr>
              <a:xfrm>
                <a:off x="6156360" y="2133360"/>
                <a:ext cx="36036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01080" y="2997000"/>
                <a:ext cx="287280" cy="217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53080" y="2925360"/>
                <a:ext cx="503280" cy="14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37080" y="3141360"/>
                <a:ext cx="142920" cy="720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5005440" y="2780640"/>
                <a:ext cx="503280" cy="289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005080" y="2349360"/>
                <a:ext cx="71640" cy="36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5508360" y="3933000"/>
                <a:ext cx="360360" cy="73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005080" y="3933360"/>
                <a:ext cx="35892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4645080" y="3862080"/>
                <a:ext cx="2872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787640" y="4222440"/>
                <a:ext cx="144360" cy="35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05440" y="220644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96000" y="3933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0720" y="371772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45440" y="3070080"/>
                <a:ext cx="288720" cy="288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61080" y="263808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85080" y="2709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61080" y="400644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00720" y="4438440"/>
                <a:ext cx="431640" cy="43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37440" y="2925360"/>
                <a:ext cx="358560" cy="35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53080" y="292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92720" y="3717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05440" y="400644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2360" y="227772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13440" y="198900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 txBox="1"/>
          <p:nvPr/>
        </p:nvSpPr>
        <p:spPr>
          <a:xfrm>
            <a:off x="0" y="0"/>
            <a:ext cx="88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ждый живой организм состоит и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екул органических веществ-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628640"/>
            <a:ext cx="180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2349360"/>
            <a:ext cx="4067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уклеиновых кисло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3213000"/>
            <a:ext cx="24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ев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386064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1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500720" y="1989000"/>
            <a:ext cx="2175840" cy="2808000"/>
            <a:chOff x="4500720" y="1989000"/>
            <a:chExt cx="2175840" cy="2808000"/>
          </a:xfrm>
        </p:grpSpPr>
        <p:sp>
          <p:nvSpPr>
            <p:cNvPr id="321" name=""/>
            <p:cNvSpPr/>
            <p:nvPr/>
          </p:nvSpPr>
          <p:spPr>
            <a:xfrm flipH="1">
              <a:off x="6254640" y="2480760"/>
              <a:ext cx="140400" cy="35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500720" y="1989000"/>
              <a:ext cx="2175840" cy="2808000"/>
              <a:chOff x="4500720" y="1989000"/>
              <a:chExt cx="2175840" cy="2808000"/>
            </a:xfrm>
          </p:grpSpPr>
          <p:sp>
            <p:nvSpPr>
              <p:cNvPr id="323" name=""/>
              <p:cNvSpPr/>
              <p:nvPr/>
            </p:nvSpPr>
            <p:spPr>
              <a:xfrm>
                <a:off x="6113880" y="2129400"/>
                <a:ext cx="35100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54640" y="2971440"/>
                <a:ext cx="279720" cy="2116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23200" y="2901600"/>
                <a:ext cx="490320" cy="140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13320" y="3112200"/>
                <a:ext cx="138960" cy="702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992480" y="2760840"/>
                <a:ext cx="490320" cy="281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92120" y="2340000"/>
                <a:ext cx="69480" cy="35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5482440" y="3883680"/>
                <a:ext cx="351000" cy="70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992120" y="3884040"/>
                <a:ext cx="34956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640760" y="3814560"/>
                <a:ext cx="27972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780440" y="4165920"/>
                <a:ext cx="140400" cy="349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92480" y="220068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62520" y="388404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00720" y="367380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95400" y="3042720"/>
                <a:ext cx="281160" cy="28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51720" y="262152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44400" y="2691360"/>
                <a:ext cx="349560" cy="349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51720" y="395532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0720" y="4376520"/>
                <a:ext cx="420480" cy="420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3320" y="2901600"/>
                <a:ext cx="349200" cy="34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23200" y="290160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72200" y="3673800"/>
                <a:ext cx="349560" cy="349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92480" y="395532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24120" y="227016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74560" y="198900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4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500720" y="1989000"/>
            <a:ext cx="2119320" cy="2734920"/>
            <a:chOff x="4500720" y="1989000"/>
            <a:chExt cx="2119320" cy="2734920"/>
          </a:xfrm>
        </p:grpSpPr>
        <p:sp>
          <p:nvSpPr>
            <p:cNvPr id="352" name=""/>
            <p:cNvSpPr/>
            <p:nvPr/>
          </p:nvSpPr>
          <p:spPr>
            <a:xfrm flipH="1">
              <a:off x="6208920" y="2468160"/>
              <a:ext cx="136800" cy="34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500720" y="1989000"/>
              <a:ext cx="2119320" cy="2734920"/>
              <a:chOff x="4500720" y="1989000"/>
              <a:chExt cx="2119320" cy="2734920"/>
            </a:xfrm>
          </p:grpSpPr>
          <p:sp>
            <p:nvSpPr>
              <p:cNvPr id="354" name=""/>
              <p:cNvSpPr/>
              <p:nvPr/>
            </p:nvSpPr>
            <p:spPr>
              <a:xfrm>
                <a:off x="6071760" y="2125800"/>
                <a:ext cx="34164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08920" y="2945880"/>
                <a:ext cx="272520" cy="206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94040" y="2877840"/>
                <a:ext cx="477360" cy="13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389560" y="3083040"/>
                <a:ext cx="135360" cy="68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4979520" y="2740680"/>
                <a:ext cx="477360" cy="274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979520" y="2331000"/>
                <a:ext cx="67680" cy="34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5456520" y="3834720"/>
                <a:ext cx="341640" cy="69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979520" y="3834720"/>
                <a:ext cx="34056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4637160" y="3766680"/>
                <a:ext cx="27252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773240" y="4109400"/>
                <a:ext cx="136800" cy="340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79520" y="219528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29760" y="383472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00720" y="363024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46080" y="3015360"/>
                <a:ext cx="273960" cy="273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42360" y="260496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04080" y="2673000"/>
                <a:ext cx="340560" cy="340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42360" y="390420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00720" y="4314240"/>
                <a:ext cx="409320" cy="4096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89560" y="2877840"/>
                <a:ext cx="340200" cy="34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94040" y="287784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52040" y="3630240"/>
                <a:ext cx="340560" cy="340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520" y="390420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76600" y="226296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36040" y="198900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8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00720" y="1989000"/>
            <a:ext cx="2063160" cy="2663640"/>
            <a:chOff x="4500720" y="1989000"/>
            <a:chExt cx="2063160" cy="2663640"/>
          </a:xfrm>
        </p:grpSpPr>
        <p:sp>
          <p:nvSpPr>
            <p:cNvPr id="383" name=""/>
            <p:cNvSpPr/>
            <p:nvPr/>
          </p:nvSpPr>
          <p:spPr>
            <a:xfrm flipH="1">
              <a:off x="6163920" y="2455560"/>
              <a:ext cx="133200" cy="33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500720" y="1989000"/>
              <a:ext cx="2063160" cy="2663640"/>
              <a:chOff x="4500720" y="1989000"/>
              <a:chExt cx="2063160" cy="2663640"/>
            </a:xfrm>
          </p:grpSpPr>
          <p:sp>
            <p:nvSpPr>
              <p:cNvPr id="385" name=""/>
              <p:cNvSpPr/>
              <p:nvPr/>
            </p:nvSpPr>
            <p:spPr>
              <a:xfrm>
                <a:off x="6030360" y="2122200"/>
                <a:ext cx="33264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3920" y="2921040"/>
                <a:ext cx="265320" cy="2008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564880" y="2854800"/>
                <a:ext cx="464760" cy="13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366160" y="3054240"/>
                <a:ext cx="131760" cy="66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4966560" y="2721240"/>
                <a:ext cx="464760" cy="267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4966560" y="2322000"/>
                <a:ext cx="65880" cy="33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5432040" y="3786480"/>
                <a:ext cx="332640" cy="67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966560" y="3786840"/>
                <a:ext cx="33156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4633560" y="3720960"/>
                <a:ext cx="26532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4766040" y="4053960"/>
                <a:ext cx="133200" cy="33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66920" y="218988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97360" y="378684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00720" y="358740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97480" y="2988360"/>
                <a:ext cx="266400" cy="266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33360" y="258912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964480" y="2655360"/>
                <a:ext cx="331560" cy="331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33360" y="385416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00720" y="4253760"/>
                <a:ext cx="398520" cy="3988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66160" y="2854800"/>
                <a:ext cx="331200" cy="331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65240" y="285480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32240" y="3587400"/>
                <a:ext cx="331560" cy="331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66920" y="385416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29800" y="225576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98240" y="198900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1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00720" y="1989000"/>
            <a:ext cx="2008080" cy="2592000"/>
            <a:chOff x="4500720" y="1989000"/>
            <a:chExt cx="2008080" cy="2592000"/>
          </a:xfrm>
        </p:grpSpPr>
        <p:sp>
          <p:nvSpPr>
            <p:cNvPr id="414" name=""/>
            <p:cNvSpPr/>
            <p:nvPr/>
          </p:nvSpPr>
          <p:spPr>
            <a:xfrm flipH="1">
              <a:off x="6119280" y="2442960"/>
              <a:ext cx="129600" cy="32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500720" y="1989000"/>
              <a:ext cx="2008080" cy="2592000"/>
              <a:chOff x="4500720" y="1989000"/>
              <a:chExt cx="2008080" cy="2592000"/>
            </a:xfrm>
          </p:grpSpPr>
          <p:sp>
            <p:nvSpPr>
              <p:cNvPr id="416" name=""/>
              <p:cNvSpPr/>
              <p:nvPr/>
            </p:nvSpPr>
            <p:spPr>
              <a:xfrm>
                <a:off x="5989320" y="2118600"/>
                <a:ext cx="32400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9280" y="2895840"/>
                <a:ext cx="258120" cy="1954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536800" y="2831400"/>
                <a:ext cx="452160" cy="12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342760" y="3025800"/>
                <a:ext cx="128160" cy="64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4954320" y="2701440"/>
                <a:ext cx="452160" cy="259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954320" y="2313000"/>
                <a:ext cx="64080" cy="32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5406840" y="3738240"/>
                <a:ext cx="324000" cy="65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954320" y="3738240"/>
                <a:ext cx="32256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629960" y="3673800"/>
                <a:ext cx="25812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758840" y="3998520"/>
                <a:ext cx="129600" cy="32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54320" y="218448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65320" y="373824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00720" y="354420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49240" y="2961720"/>
                <a:ext cx="259560" cy="259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24720" y="257292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4880" y="2637360"/>
                <a:ext cx="322560" cy="322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24720" y="380412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00720" y="4192920"/>
                <a:ext cx="388080" cy="388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42760" y="2831400"/>
                <a:ext cx="322200" cy="32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36800" y="283140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12800" y="3544200"/>
                <a:ext cx="322560" cy="322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4320" y="380412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83360" y="224856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0800" y="198900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4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00720" y="1989000"/>
            <a:ext cx="1950480" cy="2519280"/>
            <a:chOff x="4500720" y="1989000"/>
            <a:chExt cx="1950480" cy="2519280"/>
          </a:xfrm>
        </p:grpSpPr>
        <p:sp>
          <p:nvSpPr>
            <p:cNvPr id="445" name=""/>
            <p:cNvSpPr/>
            <p:nvPr/>
          </p:nvSpPr>
          <p:spPr>
            <a:xfrm flipH="1">
              <a:off x="6073200" y="2430360"/>
              <a:ext cx="126000" cy="31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500720" y="1989000"/>
              <a:ext cx="1950480" cy="2519280"/>
              <a:chOff x="4500720" y="1989000"/>
              <a:chExt cx="1950480" cy="2519280"/>
            </a:xfrm>
          </p:grpSpPr>
          <p:sp>
            <p:nvSpPr>
              <p:cNvPr id="447" name=""/>
              <p:cNvSpPr/>
              <p:nvPr/>
            </p:nvSpPr>
            <p:spPr>
              <a:xfrm>
                <a:off x="5946840" y="2115000"/>
                <a:ext cx="31464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73200" y="2870280"/>
                <a:ext cx="250920" cy="190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5506920" y="2807640"/>
                <a:ext cx="439560" cy="12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318640" y="2996640"/>
                <a:ext cx="124560" cy="63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4941000" y="2681640"/>
                <a:ext cx="439560" cy="252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941000" y="2304000"/>
                <a:ext cx="62280" cy="31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5380920" y="3688920"/>
                <a:ext cx="314640" cy="63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941360" y="3689280"/>
                <a:ext cx="31320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4626360" y="3627000"/>
                <a:ext cx="25092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751640" y="3942000"/>
                <a:ext cx="126000" cy="31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1360" y="217908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31840" y="368928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00720" y="350064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9200" y="2934360"/>
                <a:ext cx="252000" cy="252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15360" y="2556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84560" y="2619000"/>
                <a:ext cx="31320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15360" y="3753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00720" y="4131000"/>
                <a:ext cx="376920" cy="37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18640" y="2807640"/>
                <a:ext cx="31284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07280" y="280764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2280" y="3500640"/>
                <a:ext cx="31320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41360" y="375336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35480" y="2241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21920" y="198900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264320" y="3666960"/>
            <a:ext cx="2875680" cy="2397960"/>
            <a:chOff x="1264320" y="3666960"/>
            <a:chExt cx="2875680" cy="2397960"/>
          </a:xfrm>
        </p:grpSpPr>
        <p:sp>
          <p:nvSpPr>
            <p:cNvPr id="62" name=""/>
            <p:cNvSpPr/>
            <p:nvPr/>
          </p:nvSpPr>
          <p:spPr>
            <a:xfrm rot="3208800">
              <a:off x="1796760" y="4835880"/>
              <a:ext cx="214200" cy="1432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9920" y="3666960"/>
              <a:ext cx="1900080" cy="18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7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500720" y="1989000"/>
            <a:ext cx="1895040" cy="2447640"/>
            <a:chOff x="4500720" y="1989000"/>
            <a:chExt cx="1895040" cy="2447640"/>
          </a:xfrm>
        </p:grpSpPr>
        <p:sp>
          <p:nvSpPr>
            <p:cNvPr id="476" name=""/>
            <p:cNvSpPr/>
            <p:nvPr/>
          </p:nvSpPr>
          <p:spPr>
            <a:xfrm flipH="1">
              <a:off x="6028560" y="2417760"/>
              <a:ext cx="122400" cy="30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4500720" y="1989000"/>
              <a:ext cx="1895040" cy="2447640"/>
              <a:chOff x="4500720" y="1989000"/>
              <a:chExt cx="1895040" cy="2447640"/>
            </a:xfrm>
          </p:grpSpPr>
          <p:sp>
            <p:nvSpPr>
              <p:cNvPr id="478" name=""/>
              <p:cNvSpPr/>
              <p:nvPr/>
            </p:nvSpPr>
            <p:spPr>
              <a:xfrm>
                <a:off x="5905800" y="2111400"/>
                <a:ext cx="30564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28560" y="2845440"/>
                <a:ext cx="243720" cy="1846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478480" y="2784600"/>
                <a:ext cx="4269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95600" y="2967840"/>
                <a:ext cx="120960" cy="612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4928760" y="2661840"/>
                <a:ext cx="426960" cy="245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928760" y="2295000"/>
                <a:ext cx="60480" cy="30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5355720" y="3641040"/>
                <a:ext cx="305640" cy="6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928760" y="3641040"/>
                <a:ext cx="30456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4622760" y="3579840"/>
                <a:ext cx="24372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4744440" y="3886560"/>
                <a:ext cx="122400" cy="30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28760" y="217368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99800" y="364104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00720" y="345780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50960" y="2907360"/>
                <a:ext cx="244800" cy="245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6360" y="254052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44960" y="2601360"/>
                <a:ext cx="304560" cy="304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806360" y="370296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00720" y="4070160"/>
                <a:ext cx="366120" cy="366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295600" y="2784600"/>
                <a:ext cx="304200" cy="30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78480" y="278460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2840" y="3457800"/>
                <a:ext cx="304560" cy="304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8760" y="370296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89040" y="223416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784480" y="198900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0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500720" y="1989000"/>
            <a:ext cx="1839240" cy="2376720"/>
            <a:chOff x="4500720" y="1989000"/>
            <a:chExt cx="1839240" cy="2376720"/>
          </a:xfrm>
        </p:grpSpPr>
        <p:sp>
          <p:nvSpPr>
            <p:cNvPr id="507" name=""/>
            <p:cNvSpPr/>
            <p:nvPr/>
          </p:nvSpPr>
          <p:spPr>
            <a:xfrm flipH="1">
              <a:off x="5983560" y="2405160"/>
              <a:ext cx="118800" cy="297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00720" y="1989000"/>
              <a:ext cx="1839240" cy="2376720"/>
              <a:chOff x="4500720" y="1989000"/>
              <a:chExt cx="1839240" cy="237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5864400" y="2107800"/>
                <a:ext cx="29664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83560" y="2820240"/>
                <a:ext cx="236520" cy="179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449320" y="2761200"/>
                <a:ext cx="414360" cy="11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271840" y="2939400"/>
                <a:ext cx="117720" cy="59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4915800" y="2642040"/>
                <a:ext cx="414360" cy="238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915800" y="2286000"/>
                <a:ext cx="58680" cy="297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5330880" y="3592440"/>
                <a:ext cx="296640" cy="60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915800" y="3592800"/>
                <a:ext cx="29556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4619160" y="3534120"/>
                <a:ext cx="23652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737240" y="3831480"/>
                <a:ext cx="118800" cy="295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16160" y="216828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7400" y="35928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00720" y="341496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02360" y="2880720"/>
                <a:ext cx="237600" cy="237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97360" y="252432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05720" y="2583360"/>
                <a:ext cx="295560" cy="295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97360" y="365328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00720" y="4009680"/>
                <a:ext cx="355320" cy="356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72200" y="2761200"/>
                <a:ext cx="295200" cy="29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49680" y="27612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53040" y="3414960"/>
                <a:ext cx="295560" cy="295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16160" y="365328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42240" y="222696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46680" y="19890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3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500720" y="1989000"/>
            <a:ext cx="1782720" cy="2303280"/>
            <a:chOff x="4500720" y="1989000"/>
            <a:chExt cx="1782720" cy="2303280"/>
          </a:xfrm>
        </p:grpSpPr>
        <p:sp>
          <p:nvSpPr>
            <p:cNvPr id="538" name=""/>
            <p:cNvSpPr/>
            <p:nvPr/>
          </p:nvSpPr>
          <p:spPr>
            <a:xfrm flipH="1">
              <a:off x="5937480" y="2392560"/>
              <a:ext cx="115200" cy="28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500720" y="1989000"/>
              <a:ext cx="1782720" cy="2303280"/>
              <a:chOff x="4500720" y="1989000"/>
              <a:chExt cx="1782720" cy="2303280"/>
            </a:xfrm>
          </p:grpSpPr>
          <p:sp>
            <p:nvSpPr>
              <p:cNvPr id="540" name=""/>
              <p:cNvSpPr/>
              <p:nvPr/>
            </p:nvSpPr>
            <p:spPr>
              <a:xfrm>
                <a:off x="5822280" y="2104200"/>
                <a:ext cx="28764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37480" y="2794680"/>
                <a:ext cx="228960" cy="173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420160" y="2737440"/>
                <a:ext cx="401400" cy="11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248080" y="2910240"/>
                <a:ext cx="113760" cy="57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4903200" y="2622240"/>
                <a:ext cx="401400" cy="23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903560" y="2277000"/>
                <a:ext cx="56880" cy="28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5304960" y="3543480"/>
                <a:ext cx="287640" cy="58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903200" y="3543480"/>
                <a:ext cx="28620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4615920" y="3486240"/>
                <a:ext cx="22896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729680" y="3774600"/>
                <a:ext cx="115200" cy="286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03560" y="216252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34640" y="354348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00720" y="337104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53040" y="2853360"/>
                <a:ext cx="230400" cy="230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88360" y="250776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5040" y="2565000"/>
                <a:ext cx="286200" cy="286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8360" y="360180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00720" y="3947400"/>
                <a:ext cx="344520" cy="3448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48080" y="2737440"/>
                <a:ext cx="286200" cy="28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0520" y="273744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32880" y="3371040"/>
                <a:ext cx="286200" cy="286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03560" y="360180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94360" y="221976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08160" y="198900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6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556160" y="2060640"/>
            <a:ext cx="1726920" cy="2231640"/>
            <a:chOff x="4556160" y="2060640"/>
            <a:chExt cx="1726920" cy="2231640"/>
          </a:xfrm>
        </p:grpSpPr>
        <p:sp>
          <p:nvSpPr>
            <p:cNvPr id="569" name=""/>
            <p:cNvSpPr/>
            <p:nvPr/>
          </p:nvSpPr>
          <p:spPr>
            <a:xfrm flipH="1">
              <a:off x="5948280" y="2451600"/>
              <a:ext cx="111600" cy="27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556160" y="2060640"/>
              <a:ext cx="1726920" cy="2231640"/>
              <a:chOff x="4556160" y="2060640"/>
              <a:chExt cx="1726920" cy="2231640"/>
            </a:xfrm>
          </p:grpSpPr>
          <p:sp>
            <p:nvSpPr>
              <p:cNvPr id="571" name=""/>
              <p:cNvSpPr/>
              <p:nvPr/>
            </p:nvSpPr>
            <p:spPr>
              <a:xfrm>
                <a:off x="5836320" y="2172240"/>
                <a:ext cx="27864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48280" y="2841480"/>
                <a:ext cx="222120" cy="168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446800" y="2786040"/>
                <a:ext cx="389160" cy="111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280120" y="2953080"/>
                <a:ext cx="110520" cy="55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4946040" y="2674080"/>
                <a:ext cx="389160" cy="223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946040" y="2339640"/>
                <a:ext cx="55080" cy="27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5335560" y="3566520"/>
                <a:ext cx="278640" cy="56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4946040" y="3566880"/>
                <a:ext cx="27756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4667400" y="3511440"/>
                <a:ext cx="22212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4778280" y="3790800"/>
                <a:ext cx="111600" cy="277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6400" y="222876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57680" y="356688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56160" y="33998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59880" y="2898000"/>
                <a:ext cx="223200" cy="223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34800" y="25632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81240" y="2619000"/>
                <a:ext cx="277560" cy="277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34800" y="36234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56160" y="3958200"/>
                <a:ext cx="333720" cy="334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80480" y="2786040"/>
                <a:ext cx="277200" cy="277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47160" y="27860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168520" y="3399840"/>
                <a:ext cx="277560" cy="277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46400" y="362340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03360" y="22842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5800" y="20606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9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613400" y="2133720"/>
            <a:ext cx="1669680" cy="2158560"/>
            <a:chOff x="4613400" y="2133720"/>
            <a:chExt cx="1669680" cy="2158560"/>
          </a:xfrm>
        </p:grpSpPr>
        <p:sp>
          <p:nvSpPr>
            <p:cNvPr id="600" name=""/>
            <p:cNvSpPr/>
            <p:nvPr/>
          </p:nvSpPr>
          <p:spPr>
            <a:xfrm flipH="1">
              <a:off x="5959080" y="2511720"/>
              <a:ext cx="107640" cy="270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613400" y="2133720"/>
              <a:ext cx="1669680" cy="2158560"/>
              <a:chOff x="4613400" y="2133720"/>
              <a:chExt cx="1669680" cy="2158560"/>
            </a:xfrm>
          </p:grpSpPr>
          <p:sp>
            <p:nvSpPr>
              <p:cNvPr id="602" name=""/>
              <p:cNvSpPr/>
              <p:nvPr/>
            </p:nvSpPr>
            <p:spPr>
              <a:xfrm>
                <a:off x="5851440" y="2241720"/>
                <a:ext cx="26928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59440" y="2889000"/>
                <a:ext cx="214560" cy="162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474520" y="2835360"/>
                <a:ext cx="37620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313600" y="2997000"/>
                <a:ext cx="106560" cy="54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4990320" y="2726640"/>
                <a:ext cx="376200" cy="21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990680" y="2403720"/>
                <a:ext cx="53280" cy="27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5366880" y="3590640"/>
                <a:ext cx="269280" cy="5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990320" y="3590640"/>
                <a:ext cx="26820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4721040" y="3536640"/>
                <a:ext cx="21456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27600" y="3807360"/>
                <a:ext cx="107640" cy="26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90680" y="229644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81800" y="359064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13400" y="342900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67440" y="2943720"/>
                <a:ext cx="215640" cy="2160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82680" y="262008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97800" y="2673720"/>
                <a:ext cx="268200" cy="26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82680" y="364536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13400" y="3969000"/>
                <a:ext cx="322560" cy="32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13600" y="2835360"/>
                <a:ext cx="267840" cy="26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4880" y="283536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05600" y="3429000"/>
                <a:ext cx="268200" cy="26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90680" y="364536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12720" y="234972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44520" y="213372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2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668840" y="2205000"/>
            <a:ext cx="1614240" cy="2087280"/>
            <a:chOff x="4668840" y="2205000"/>
            <a:chExt cx="1614240" cy="2087280"/>
          </a:xfrm>
        </p:grpSpPr>
        <p:sp>
          <p:nvSpPr>
            <p:cNvPr id="631" name=""/>
            <p:cNvSpPr/>
            <p:nvPr/>
          </p:nvSpPr>
          <p:spPr>
            <a:xfrm flipH="1">
              <a:off x="5969880" y="2570400"/>
              <a:ext cx="104040" cy="26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668840" y="2205000"/>
              <a:ext cx="1614240" cy="2087280"/>
              <a:chOff x="4668840" y="2205000"/>
              <a:chExt cx="1614240" cy="2087280"/>
            </a:xfrm>
          </p:grpSpPr>
          <p:sp>
            <p:nvSpPr>
              <p:cNvPr id="633" name=""/>
              <p:cNvSpPr/>
              <p:nvPr/>
            </p:nvSpPr>
            <p:spPr>
              <a:xfrm>
                <a:off x="5865480" y="2309400"/>
                <a:ext cx="26028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70240" y="2935080"/>
                <a:ext cx="207360" cy="157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501880" y="2883240"/>
                <a:ext cx="363600" cy="104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345640" y="3039840"/>
                <a:ext cx="103320" cy="52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5033520" y="2778480"/>
                <a:ext cx="363600" cy="20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5033160" y="2466000"/>
                <a:ext cx="51480" cy="26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5397120" y="3613320"/>
                <a:ext cx="260280" cy="5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5033520" y="3613680"/>
                <a:ext cx="25920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4772880" y="3562200"/>
                <a:ext cx="20736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875840" y="3823200"/>
                <a:ext cx="104040" cy="259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33520" y="236232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05200" y="361368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68840" y="345744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74640" y="2988360"/>
                <a:ext cx="20844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29120" y="267516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14000" y="2727000"/>
                <a:ext cx="259200" cy="25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29120" y="366660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68840" y="3979800"/>
                <a:ext cx="311760" cy="312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346000" y="2883240"/>
                <a:ext cx="259200" cy="259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01880" y="288324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41240" y="3457440"/>
                <a:ext cx="259200" cy="25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033520" y="366660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21720" y="241416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62160" y="220500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5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5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724280" y="2276640"/>
            <a:ext cx="1558800" cy="2016000"/>
            <a:chOff x="4724280" y="2276640"/>
            <a:chExt cx="1558800" cy="2016000"/>
          </a:xfrm>
        </p:grpSpPr>
        <p:sp>
          <p:nvSpPr>
            <p:cNvPr id="662" name=""/>
            <p:cNvSpPr/>
            <p:nvPr/>
          </p:nvSpPr>
          <p:spPr>
            <a:xfrm flipH="1">
              <a:off x="5980680" y="2629800"/>
              <a:ext cx="100440" cy="25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724280" y="2276640"/>
              <a:ext cx="1558800" cy="2016000"/>
              <a:chOff x="4724280" y="2276640"/>
              <a:chExt cx="1558800" cy="2016000"/>
            </a:xfrm>
          </p:grpSpPr>
          <p:sp>
            <p:nvSpPr>
              <p:cNvPr id="664" name=""/>
              <p:cNvSpPr/>
              <p:nvPr/>
            </p:nvSpPr>
            <p:spPr>
              <a:xfrm>
                <a:off x="5879880" y="2377440"/>
                <a:ext cx="25128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981040" y="2981880"/>
                <a:ext cx="200520" cy="15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528520" y="2931840"/>
                <a:ext cx="351360" cy="101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377680" y="3082680"/>
                <a:ext cx="99720" cy="50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5076360" y="2830320"/>
                <a:ext cx="351360" cy="201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076360" y="2528640"/>
                <a:ext cx="49680" cy="25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5427720" y="3637080"/>
                <a:ext cx="251280" cy="5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076360" y="3637080"/>
                <a:ext cx="25056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4824360" y="3586680"/>
                <a:ext cx="20052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924440" y="3839400"/>
                <a:ext cx="100440" cy="250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76360" y="242856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28240" y="363708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24280" y="34862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81840" y="3033000"/>
                <a:ext cx="20124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75560" y="27306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30200" y="2780640"/>
                <a:ext cx="250560" cy="25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75560" y="36882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90600"/>
                <a:ext cx="301320" cy="302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8040" y="2931840"/>
                <a:ext cx="250200" cy="250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28520" y="29318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76880" y="3486240"/>
                <a:ext cx="250560" cy="25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76360" y="368820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030720" y="24786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80160" y="22766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9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724280" y="2276640"/>
            <a:ext cx="1503000" cy="1944360"/>
            <a:chOff x="4724280" y="2276640"/>
            <a:chExt cx="1503000" cy="1944360"/>
          </a:xfrm>
        </p:grpSpPr>
        <p:sp>
          <p:nvSpPr>
            <p:cNvPr id="693" name=""/>
            <p:cNvSpPr/>
            <p:nvPr/>
          </p:nvSpPr>
          <p:spPr>
            <a:xfrm flipH="1">
              <a:off x="5935680" y="2617200"/>
              <a:ext cx="96840" cy="24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4724280" y="2276640"/>
              <a:ext cx="1503000" cy="1944360"/>
              <a:chOff x="4724280" y="2276640"/>
              <a:chExt cx="1503000" cy="1944360"/>
            </a:xfrm>
          </p:grpSpPr>
          <p:sp>
            <p:nvSpPr>
              <p:cNvPr id="695" name=""/>
              <p:cNvSpPr/>
              <p:nvPr/>
            </p:nvSpPr>
            <p:spPr>
              <a:xfrm>
                <a:off x="5838480" y="2373840"/>
                <a:ext cx="24228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36040" y="2956680"/>
                <a:ext cx="193320" cy="146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499360" y="2908440"/>
                <a:ext cx="338760" cy="9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354280" y="3054240"/>
                <a:ext cx="96120" cy="48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063400" y="2810520"/>
                <a:ext cx="338760" cy="194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063400" y="2519640"/>
                <a:ext cx="47880" cy="24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402160" y="3588480"/>
                <a:ext cx="242280" cy="49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063400" y="3588840"/>
                <a:ext cx="24156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4820760" y="3540600"/>
                <a:ext cx="19332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917240" y="3783960"/>
                <a:ext cx="96840" cy="24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63760" y="242316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596200" y="35888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724280" y="34430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33240" y="3006000"/>
                <a:ext cx="19404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66560" y="271440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90600" y="2763000"/>
                <a:ext cx="24156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66560" y="363816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24280" y="3929760"/>
                <a:ext cx="290520" cy="291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54640" y="2908440"/>
                <a:ext cx="24120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9720" y="29084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257080" y="3443040"/>
                <a:ext cx="24156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063760" y="363816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83920" y="247140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42360" y="22766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2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781520" y="2349360"/>
            <a:ext cx="1446120" cy="1871280"/>
            <a:chOff x="4781520" y="2349360"/>
            <a:chExt cx="1446120" cy="1871280"/>
          </a:xfrm>
        </p:grpSpPr>
        <p:sp>
          <p:nvSpPr>
            <p:cNvPr id="724" name=""/>
            <p:cNvSpPr/>
            <p:nvPr/>
          </p:nvSpPr>
          <p:spPr>
            <a:xfrm flipH="1">
              <a:off x="5946840" y="2676960"/>
              <a:ext cx="93240" cy="23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81520" y="2349360"/>
              <a:ext cx="1446120" cy="1871280"/>
              <a:chOff x="4781520" y="2349360"/>
              <a:chExt cx="1446120" cy="1871280"/>
            </a:xfrm>
          </p:grpSpPr>
          <p:sp>
            <p:nvSpPr>
              <p:cNvPr id="726" name=""/>
              <p:cNvSpPr/>
              <p:nvPr/>
            </p:nvSpPr>
            <p:spPr>
              <a:xfrm>
                <a:off x="5853600" y="2442960"/>
                <a:ext cx="23328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7200" y="3004200"/>
                <a:ext cx="185760" cy="14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5527080" y="2957400"/>
                <a:ext cx="325800" cy="93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387400" y="3097800"/>
                <a:ext cx="92520" cy="46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5107680" y="2863440"/>
                <a:ext cx="325800" cy="18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5108040" y="2583360"/>
                <a:ext cx="46080" cy="23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5434200" y="3611880"/>
                <a:ext cx="233280" cy="4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5107680" y="3612240"/>
                <a:ext cx="23220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4874760" y="3565800"/>
                <a:ext cx="18576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966920" y="3800160"/>
                <a:ext cx="93240" cy="23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108040" y="249048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19960" y="361224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781520" y="347220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40800" y="305136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14800" y="277092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7160" y="2817360"/>
                <a:ext cx="23220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14800" y="365976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81520" y="3940560"/>
                <a:ext cx="279360" cy="280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87760" y="2957400"/>
                <a:ext cx="23184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527440" y="295740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94160" y="3472200"/>
                <a:ext cx="23220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08040" y="365976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3280" y="253692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60720" y="234936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5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5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781520" y="2349360"/>
            <a:ext cx="1390320" cy="1800360"/>
            <a:chOff x="4781520" y="2349360"/>
            <a:chExt cx="1390320" cy="1800360"/>
          </a:xfrm>
        </p:grpSpPr>
        <p:sp>
          <p:nvSpPr>
            <p:cNvPr id="755" name=""/>
            <p:cNvSpPr/>
            <p:nvPr/>
          </p:nvSpPr>
          <p:spPr>
            <a:xfrm flipH="1">
              <a:off x="5902200" y="2664720"/>
              <a:ext cx="89640" cy="22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781520" y="2349360"/>
              <a:ext cx="1390320" cy="1800360"/>
              <a:chOff x="4781520" y="2349360"/>
              <a:chExt cx="1390320" cy="1800360"/>
            </a:xfrm>
          </p:grpSpPr>
          <p:sp>
            <p:nvSpPr>
              <p:cNvPr id="757" name=""/>
              <p:cNvSpPr/>
              <p:nvPr/>
            </p:nvSpPr>
            <p:spPr>
              <a:xfrm>
                <a:off x="5812200" y="2439360"/>
                <a:ext cx="22428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02560" y="2979000"/>
                <a:ext cx="178560" cy="135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5499000" y="2934360"/>
                <a:ext cx="313200" cy="9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364360" y="3069360"/>
                <a:ext cx="88920" cy="45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095800" y="2843640"/>
                <a:ext cx="313200" cy="18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5095440" y="2574360"/>
                <a:ext cx="44280" cy="22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5408640" y="3564360"/>
                <a:ext cx="224280" cy="45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095800" y="3564360"/>
                <a:ext cx="22320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4871160" y="3519720"/>
                <a:ext cx="17856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4959720" y="3745080"/>
                <a:ext cx="89640" cy="224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95800" y="248508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7920" y="3564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81520" y="3429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92200" y="3024720"/>
                <a:ext cx="17964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05800" y="275472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767920" y="2799720"/>
                <a:ext cx="223200" cy="223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05800" y="361008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781520" y="3880080"/>
                <a:ext cx="268560" cy="269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64720" y="2934360"/>
                <a:ext cx="223200" cy="22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99000" y="2934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74360" y="3429360"/>
                <a:ext cx="223200" cy="223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95800" y="361008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46840" y="252972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723280" y="2349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266120" y="3619440"/>
            <a:ext cx="2945520" cy="2455560"/>
            <a:chOff x="1266120" y="3619440"/>
            <a:chExt cx="2945520" cy="2455560"/>
          </a:xfrm>
        </p:grpSpPr>
        <p:sp>
          <p:nvSpPr>
            <p:cNvPr id="66" name=""/>
            <p:cNvSpPr/>
            <p:nvPr/>
          </p:nvSpPr>
          <p:spPr>
            <a:xfrm rot="3208800">
              <a:off x="1811160" y="4816080"/>
              <a:ext cx="219240" cy="1467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65480" y="3619440"/>
              <a:ext cx="1946160" cy="188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8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8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781520" y="2349360"/>
            <a:ext cx="1333080" cy="1726920"/>
            <a:chOff x="4781520" y="2349360"/>
            <a:chExt cx="1333080" cy="1726920"/>
          </a:xfrm>
        </p:grpSpPr>
        <p:sp>
          <p:nvSpPr>
            <p:cNvPr id="786" name=""/>
            <p:cNvSpPr/>
            <p:nvPr/>
          </p:nvSpPr>
          <p:spPr>
            <a:xfrm flipH="1">
              <a:off x="5856120" y="2651760"/>
              <a:ext cx="86040" cy="21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4781520" y="2349360"/>
              <a:ext cx="1333080" cy="1726920"/>
              <a:chOff x="4781520" y="2349360"/>
              <a:chExt cx="1333080" cy="1726920"/>
            </a:xfrm>
          </p:grpSpPr>
          <p:sp>
            <p:nvSpPr>
              <p:cNvPr id="788" name=""/>
              <p:cNvSpPr/>
              <p:nvPr/>
            </p:nvSpPr>
            <p:spPr>
              <a:xfrm>
                <a:off x="5770080" y="2435760"/>
                <a:ext cx="21492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56480" y="2953440"/>
                <a:ext cx="171360" cy="130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5469480" y="2910600"/>
                <a:ext cx="300240" cy="86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340240" y="3040200"/>
                <a:ext cx="85320" cy="43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5082840" y="2823840"/>
                <a:ext cx="300240" cy="173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5082840" y="2565360"/>
                <a:ext cx="424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5382720" y="3514680"/>
                <a:ext cx="214920" cy="4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082480" y="3515040"/>
                <a:ext cx="21420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4867560" y="3471840"/>
                <a:ext cx="17136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952520" y="3688200"/>
                <a:ext cx="86040" cy="21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82840" y="247968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554800" y="351504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81520" y="338580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942520" y="2997360"/>
                <a:ext cx="172080" cy="172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96440" y="273852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27240" y="2781360"/>
                <a:ext cx="21420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996440" y="355896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81520" y="3817800"/>
                <a:ext cx="257400" cy="258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340600" y="2910600"/>
                <a:ext cx="21384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69480" y="291060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54200" y="3385800"/>
                <a:ext cx="21420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2840" y="355896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98960" y="252216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684760" y="234936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836960" y="2421000"/>
            <a:ext cx="1277640" cy="1655640"/>
            <a:chOff x="4836960" y="2421000"/>
            <a:chExt cx="1277640" cy="1655640"/>
          </a:xfrm>
        </p:grpSpPr>
        <p:sp>
          <p:nvSpPr>
            <p:cNvPr id="817" name=""/>
            <p:cNvSpPr/>
            <p:nvPr/>
          </p:nvSpPr>
          <p:spPr>
            <a:xfrm flipH="1">
              <a:off x="5866560" y="2710800"/>
              <a:ext cx="82440" cy="207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836960" y="2421000"/>
              <a:ext cx="1277640" cy="1655640"/>
              <a:chOff x="4836960" y="2421000"/>
              <a:chExt cx="1277640" cy="1655640"/>
            </a:xfrm>
          </p:grpSpPr>
          <p:sp>
            <p:nvSpPr>
              <p:cNvPr id="819" name=""/>
              <p:cNvSpPr/>
              <p:nvPr/>
            </p:nvSpPr>
            <p:spPr>
              <a:xfrm>
                <a:off x="5784120" y="2503800"/>
                <a:ext cx="20592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6920" y="3000240"/>
                <a:ext cx="164160" cy="12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5496120" y="2958840"/>
                <a:ext cx="288000" cy="83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5372640" y="3083040"/>
                <a:ext cx="81720" cy="41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flipV="1">
                <a:off x="5125680" y="2875680"/>
                <a:ext cx="288000" cy="16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5125320" y="2628000"/>
                <a:ext cx="40680" cy="207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5413680" y="3538440"/>
                <a:ext cx="205920" cy="41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125680" y="3538440"/>
                <a:ext cx="20520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4919400" y="3497400"/>
                <a:ext cx="16416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5000760" y="3704400"/>
                <a:ext cx="82440" cy="205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125680" y="254592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78200" y="35384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36960" y="34142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49720" y="3042000"/>
                <a:ext cx="164880" cy="165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42880" y="279396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43440" y="2835000"/>
                <a:ext cx="20520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42880" y="358020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836960" y="3828600"/>
                <a:ext cx="246960" cy="248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373000" y="2958840"/>
                <a:ext cx="20484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96120" y="29588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200" y="3414240"/>
                <a:ext cx="20520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125680" y="358020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07960" y="258660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02400" y="242100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4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836960" y="2421000"/>
            <a:ext cx="1222560" cy="1584360"/>
            <a:chOff x="4836960" y="2421000"/>
            <a:chExt cx="1222560" cy="1584360"/>
          </a:xfrm>
        </p:grpSpPr>
        <p:sp>
          <p:nvSpPr>
            <p:cNvPr id="848" name=""/>
            <p:cNvSpPr/>
            <p:nvPr/>
          </p:nvSpPr>
          <p:spPr>
            <a:xfrm flipH="1">
              <a:off x="5821920" y="2698560"/>
              <a:ext cx="78840" cy="19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836960" y="2421000"/>
              <a:ext cx="1222560" cy="1584360"/>
              <a:chOff x="4836960" y="2421000"/>
              <a:chExt cx="1222560" cy="1584360"/>
            </a:xfrm>
          </p:grpSpPr>
          <p:sp>
            <p:nvSpPr>
              <p:cNvPr id="850" name=""/>
              <p:cNvSpPr/>
              <p:nvPr/>
            </p:nvSpPr>
            <p:spPr>
              <a:xfrm>
                <a:off x="5743080" y="2500200"/>
                <a:ext cx="19728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22280" y="2975040"/>
                <a:ext cx="156960" cy="119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5467320" y="2935800"/>
                <a:ext cx="275400" cy="79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5349240" y="3054600"/>
                <a:ext cx="78120" cy="39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5112720" y="2855880"/>
                <a:ext cx="275400" cy="158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5113080" y="2619000"/>
                <a:ext cx="38880" cy="19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5388480" y="3489840"/>
                <a:ext cx="197280" cy="3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5112720" y="3490200"/>
                <a:ext cx="19620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4915800" y="3450600"/>
                <a:ext cx="15696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4993560" y="3649320"/>
                <a:ext cx="78840" cy="197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13080" y="254052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45800" y="34902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36960" y="33714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01480" y="30153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034240" y="27777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04200" y="2817360"/>
                <a:ext cx="196200" cy="19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34240" y="353052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36960" y="3768120"/>
                <a:ext cx="236160" cy="237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349600" y="2935800"/>
                <a:ext cx="196200" cy="19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67680" y="29358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270400" y="3371400"/>
                <a:ext cx="196200" cy="19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13080" y="353052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1520" y="25797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64960" y="24210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7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892760" y="2492280"/>
            <a:ext cx="1166760" cy="1512720"/>
            <a:chOff x="4892760" y="2492280"/>
            <a:chExt cx="1166760" cy="1512720"/>
          </a:xfrm>
        </p:grpSpPr>
        <p:sp>
          <p:nvSpPr>
            <p:cNvPr id="879" name=""/>
            <p:cNvSpPr/>
            <p:nvPr/>
          </p:nvSpPr>
          <p:spPr>
            <a:xfrm flipH="1">
              <a:off x="5832720" y="2757240"/>
              <a:ext cx="75240" cy="18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892760" y="2492280"/>
              <a:ext cx="1166760" cy="1512720"/>
              <a:chOff x="4892760" y="2492280"/>
              <a:chExt cx="1166760" cy="151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757480" y="2567880"/>
                <a:ext cx="18828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33080" y="3021480"/>
                <a:ext cx="149760" cy="114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494680" y="2984040"/>
                <a:ext cx="262800" cy="7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381640" y="3097440"/>
                <a:ext cx="74520" cy="37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5156280" y="2907720"/>
                <a:ext cx="262800" cy="15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155920" y="2681280"/>
                <a:ext cx="37080" cy="18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5418720" y="3513240"/>
                <a:ext cx="188280" cy="38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156280" y="3513240"/>
                <a:ext cx="18720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4968000" y="3475440"/>
                <a:ext cx="14976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5042160" y="3665160"/>
                <a:ext cx="75240" cy="188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56280" y="260640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69200" y="351324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92760" y="340020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908680" y="306000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81040" y="283320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720400" y="287064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81040" y="355176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892760" y="3778560"/>
                <a:ext cx="225360" cy="226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2000" y="298404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494680" y="298404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06400" y="340020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56280" y="355176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70520" y="264384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82960" y="249228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0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948200" y="2565360"/>
            <a:ext cx="1111320" cy="1440000"/>
            <a:chOff x="4948200" y="2565360"/>
            <a:chExt cx="1111320" cy="1440000"/>
          </a:xfrm>
        </p:grpSpPr>
        <p:sp>
          <p:nvSpPr>
            <p:cNvPr id="910" name=""/>
            <p:cNvSpPr/>
            <p:nvPr/>
          </p:nvSpPr>
          <p:spPr>
            <a:xfrm flipH="1">
              <a:off x="5843520" y="2817360"/>
              <a:ext cx="71640" cy="180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948200" y="2565360"/>
              <a:ext cx="1111320" cy="1440000"/>
              <a:chOff x="4948200" y="2565360"/>
              <a:chExt cx="1111320" cy="144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5771880" y="2637360"/>
                <a:ext cx="17928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43880" y="3069000"/>
                <a:ext cx="14292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5521320" y="3033360"/>
                <a:ext cx="250200" cy="7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413680" y="3141360"/>
                <a:ext cx="70920" cy="36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flipV="1">
                <a:off x="5198760" y="2960640"/>
                <a:ext cx="250200" cy="14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5198760" y="2745360"/>
                <a:ext cx="35640" cy="18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5449680" y="3536640"/>
                <a:ext cx="179280" cy="3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5199120" y="3537000"/>
                <a:ext cx="17856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flipV="1">
                <a:off x="5019480" y="3501000"/>
                <a:ext cx="14292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5090760" y="3681720"/>
                <a:ext cx="71640" cy="179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99120" y="267372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592600" y="353700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948200" y="3429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915880" y="3105720"/>
                <a:ext cx="143640" cy="1440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27480" y="288972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36600" y="2925360"/>
                <a:ext cx="178560" cy="17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27480" y="357372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8200" y="3789720"/>
                <a:ext cx="214560" cy="215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14040" y="3033360"/>
                <a:ext cx="178200" cy="179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1680" y="3033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42040" y="3429360"/>
                <a:ext cx="178560" cy="17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199120" y="357372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79520" y="270936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00960" y="2565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3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3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948200" y="2565360"/>
            <a:ext cx="1055880" cy="1368000"/>
            <a:chOff x="4948200" y="2565360"/>
            <a:chExt cx="1055880" cy="1368000"/>
          </a:xfrm>
        </p:grpSpPr>
        <p:sp>
          <p:nvSpPr>
            <p:cNvPr id="941" name=""/>
            <p:cNvSpPr/>
            <p:nvPr/>
          </p:nvSpPr>
          <p:spPr>
            <a:xfrm flipH="1">
              <a:off x="5798880" y="2804760"/>
              <a:ext cx="68040" cy="17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4948200" y="2565360"/>
              <a:ext cx="1055880" cy="1368000"/>
              <a:chOff x="4948200" y="2565360"/>
              <a:chExt cx="1055880" cy="1368000"/>
            </a:xfrm>
          </p:grpSpPr>
          <p:sp>
            <p:nvSpPr>
              <p:cNvPr id="943" name=""/>
              <p:cNvSpPr/>
              <p:nvPr/>
            </p:nvSpPr>
            <p:spPr>
              <a:xfrm>
                <a:off x="5730840" y="2633760"/>
                <a:ext cx="17028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99240" y="3044160"/>
                <a:ext cx="135720" cy="102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5492520" y="3009960"/>
                <a:ext cx="237960" cy="68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5390640" y="3112560"/>
                <a:ext cx="67320" cy="34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5186160" y="2941200"/>
                <a:ext cx="237960" cy="13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5186520" y="2736360"/>
                <a:ext cx="33840" cy="17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5424120" y="3488760"/>
                <a:ext cx="170280" cy="34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5186160" y="3488760"/>
                <a:ext cx="16956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5015880" y="3454560"/>
                <a:ext cx="13572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5083560" y="3625920"/>
                <a:ext cx="68040" cy="170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186520" y="266832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60560" y="348876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8200" y="338652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7640" y="3078720"/>
                <a:ext cx="136440" cy="136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8480" y="287352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697000" y="2907360"/>
                <a:ext cx="16956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18480" y="352332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48200" y="3728520"/>
                <a:ext cx="203760" cy="2048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391000" y="3009960"/>
                <a:ext cx="16920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492880" y="300996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22600" y="3386520"/>
                <a:ext cx="16956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86520" y="352332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3080" y="270216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63160" y="256536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6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003640" y="2637000"/>
            <a:ext cx="1000440" cy="1296360"/>
            <a:chOff x="5003640" y="2637000"/>
            <a:chExt cx="1000440" cy="1296360"/>
          </a:xfrm>
        </p:grpSpPr>
        <p:sp>
          <p:nvSpPr>
            <p:cNvPr id="972" name=""/>
            <p:cNvSpPr/>
            <p:nvPr/>
          </p:nvSpPr>
          <p:spPr>
            <a:xfrm flipH="1">
              <a:off x="5809680" y="2864160"/>
              <a:ext cx="64440" cy="16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003640" y="2637000"/>
              <a:ext cx="1000440" cy="1296360"/>
              <a:chOff x="5003640" y="2637000"/>
              <a:chExt cx="1000440" cy="1296360"/>
            </a:xfrm>
          </p:grpSpPr>
          <p:sp>
            <p:nvSpPr>
              <p:cNvPr id="974" name=""/>
              <p:cNvSpPr/>
              <p:nvPr/>
            </p:nvSpPr>
            <p:spPr>
              <a:xfrm>
                <a:off x="5745240" y="2701800"/>
                <a:ext cx="16128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10040" y="3090600"/>
                <a:ext cx="128520" cy="9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5519880" y="3058200"/>
                <a:ext cx="225360" cy="64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5422680" y="3155400"/>
                <a:ext cx="63720" cy="32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5229720" y="2993040"/>
                <a:ext cx="225360" cy="12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5229360" y="2799000"/>
                <a:ext cx="32040" cy="16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5455080" y="3511800"/>
                <a:ext cx="161280" cy="3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229720" y="3512160"/>
                <a:ext cx="16056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5067720" y="3480120"/>
                <a:ext cx="12852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5131800" y="3642120"/>
                <a:ext cx="64440" cy="161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229720" y="273456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583600" y="351216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003640" y="341496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74840" y="31233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164920" y="29289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713200" y="296136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164920" y="354492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03640" y="3739320"/>
                <a:ext cx="193320" cy="194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23040" y="305820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19880" y="305820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58240" y="341496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229720" y="354492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42080" y="27669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681160" y="263700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9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0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003640" y="2637000"/>
            <a:ext cx="944640" cy="1223640"/>
            <a:chOff x="5003640" y="2637000"/>
            <a:chExt cx="944640" cy="1223640"/>
          </a:xfrm>
        </p:grpSpPr>
        <p:sp>
          <p:nvSpPr>
            <p:cNvPr id="1003" name=""/>
            <p:cNvSpPr/>
            <p:nvPr/>
          </p:nvSpPr>
          <p:spPr>
            <a:xfrm flipH="1">
              <a:off x="5764680" y="2851200"/>
              <a:ext cx="60840" cy="15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03640" y="2637000"/>
              <a:ext cx="944640" cy="1223640"/>
              <a:chOff x="5003640" y="2637000"/>
              <a:chExt cx="944640" cy="1223640"/>
            </a:xfrm>
          </p:grpSpPr>
          <p:sp>
            <p:nvSpPr>
              <p:cNvPr id="1005" name=""/>
              <p:cNvSpPr/>
              <p:nvPr/>
            </p:nvSpPr>
            <p:spPr>
              <a:xfrm>
                <a:off x="5703840" y="2698200"/>
                <a:ext cx="15228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765040" y="3065040"/>
                <a:ext cx="121320" cy="92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5490720" y="3034440"/>
                <a:ext cx="212760" cy="61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5399280" y="3126240"/>
                <a:ext cx="60120" cy="30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5216760" y="2972880"/>
                <a:ext cx="2127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217120" y="2790000"/>
                <a:ext cx="30240" cy="15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flipV="1">
                <a:off x="5429520" y="3462840"/>
                <a:ext cx="152280" cy="30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216760" y="3462840"/>
                <a:ext cx="15156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>
                <a:off x="5064120" y="3432600"/>
                <a:ext cx="12132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124600" y="3585600"/>
                <a:ext cx="60840" cy="152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217120" y="272916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551560" y="34628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03640" y="33710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26240" y="3096000"/>
                <a:ext cx="122040" cy="122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155920" y="2912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673600" y="294300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155920" y="34938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3640" y="3677400"/>
                <a:ext cx="182520" cy="183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99640" y="30344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91080" y="30344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38440" y="33710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217120" y="34938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95280" y="2759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43360" y="26370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3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3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59440" y="2708280"/>
            <a:ext cx="944640" cy="1225440"/>
            <a:chOff x="5059440" y="2708280"/>
            <a:chExt cx="944640" cy="1225440"/>
          </a:xfrm>
        </p:grpSpPr>
        <p:sp>
          <p:nvSpPr>
            <p:cNvPr id="1034" name=""/>
            <p:cNvSpPr/>
            <p:nvPr/>
          </p:nvSpPr>
          <p:spPr>
            <a:xfrm flipH="1">
              <a:off x="5820480" y="2922840"/>
              <a:ext cx="60840" cy="15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5059440" y="2708280"/>
              <a:ext cx="944640" cy="1225440"/>
              <a:chOff x="5059440" y="2708280"/>
              <a:chExt cx="944640" cy="1225440"/>
            </a:xfrm>
          </p:grpSpPr>
          <p:sp>
            <p:nvSpPr>
              <p:cNvPr id="1036" name=""/>
              <p:cNvSpPr/>
              <p:nvPr/>
            </p:nvSpPr>
            <p:spPr>
              <a:xfrm>
                <a:off x="5759640" y="2769480"/>
                <a:ext cx="15228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20840" y="3137040"/>
                <a:ext cx="121320" cy="92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5546520" y="3106440"/>
                <a:ext cx="212760" cy="6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5455080" y="3198240"/>
                <a:ext cx="60120" cy="30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5272560" y="3044520"/>
                <a:ext cx="2127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5272920" y="2861280"/>
                <a:ext cx="30240" cy="15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flipV="1">
                <a:off x="5485320" y="3535200"/>
                <a:ext cx="152280" cy="30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5272560" y="3535200"/>
                <a:ext cx="15156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5119920" y="3504600"/>
                <a:ext cx="12132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5180400" y="3658320"/>
                <a:ext cx="60840" cy="152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72920" y="28004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07360" y="353520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59440" y="34434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82040" y="31680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1720" y="2984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29400" y="30146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1720" y="356652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9440" y="3750120"/>
                <a:ext cx="182520" cy="1836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55440" y="3106440"/>
                <a:ext cx="151560" cy="152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46880" y="310644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94240" y="344340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272920" y="356652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51080" y="283104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699160" y="270828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6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6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059440" y="2708280"/>
            <a:ext cx="888840" cy="1152000"/>
            <a:chOff x="5059440" y="2708280"/>
            <a:chExt cx="888840" cy="1152000"/>
          </a:xfrm>
        </p:grpSpPr>
        <p:sp>
          <p:nvSpPr>
            <p:cNvPr id="1065" name=""/>
            <p:cNvSpPr/>
            <p:nvPr/>
          </p:nvSpPr>
          <p:spPr>
            <a:xfrm flipH="1">
              <a:off x="5775480" y="2909880"/>
              <a:ext cx="57240" cy="14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5059440" y="2708280"/>
              <a:ext cx="888840" cy="1152000"/>
              <a:chOff x="5059440" y="2708280"/>
              <a:chExt cx="888840" cy="1152000"/>
            </a:xfrm>
          </p:grpSpPr>
          <p:sp>
            <p:nvSpPr>
              <p:cNvPr id="1067" name=""/>
              <p:cNvSpPr/>
              <p:nvPr/>
            </p:nvSpPr>
            <p:spPr>
              <a:xfrm>
                <a:off x="5718240" y="2765880"/>
                <a:ext cx="14328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75840" y="3111480"/>
                <a:ext cx="114120" cy="86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5518080" y="3082680"/>
                <a:ext cx="200160" cy="57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5432040" y="3169080"/>
                <a:ext cx="56880" cy="28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5260320" y="3024720"/>
                <a:ext cx="200160" cy="11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5259960" y="2852280"/>
                <a:ext cx="28440" cy="14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5460480" y="3485520"/>
                <a:ext cx="143280" cy="2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5260320" y="3485880"/>
                <a:ext cx="14256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5116320" y="3457440"/>
                <a:ext cx="11412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5173200" y="3601440"/>
                <a:ext cx="57240" cy="143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60320" y="279504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74960" y="348588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59440" y="339984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33440" y="3140640"/>
                <a:ext cx="114840" cy="115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202720" y="296784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689800" y="299628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202720" y="351504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59440" y="3687840"/>
                <a:ext cx="171720" cy="172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432040" y="308268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18080" y="308268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74440" y="339984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60320" y="351504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04280" y="282348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61360" y="270828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267920" y="3570120"/>
            <a:ext cx="3016440" cy="2514600"/>
            <a:chOff x="1267920" y="3570120"/>
            <a:chExt cx="3016440" cy="2514600"/>
          </a:xfrm>
        </p:grpSpPr>
        <p:sp>
          <p:nvSpPr>
            <p:cNvPr id="70" name=""/>
            <p:cNvSpPr/>
            <p:nvPr/>
          </p:nvSpPr>
          <p:spPr>
            <a:xfrm rot="3208800">
              <a:off x="1826280" y="4795560"/>
              <a:ext cx="224640" cy="1503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1400" y="3570120"/>
              <a:ext cx="1992960" cy="19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9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9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5059440" y="2708280"/>
            <a:ext cx="833400" cy="1080720"/>
            <a:chOff x="5059440" y="2708280"/>
            <a:chExt cx="833400" cy="1080720"/>
          </a:xfrm>
        </p:grpSpPr>
        <p:sp>
          <p:nvSpPr>
            <p:cNvPr id="1096" name=""/>
            <p:cNvSpPr/>
            <p:nvPr/>
          </p:nvSpPr>
          <p:spPr>
            <a:xfrm flipH="1">
              <a:off x="5730840" y="2897640"/>
              <a:ext cx="53640" cy="13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5059440" y="2708280"/>
              <a:ext cx="833400" cy="1080720"/>
              <a:chOff x="5059440" y="2708280"/>
              <a:chExt cx="833400" cy="1080720"/>
            </a:xfrm>
          </p:grpSpPr>
          <p:sp>
            <p:nvSpPr>
              <p:cNvPr id="1098" name=""/>
              <p:cNvSpPr/>
              <p:nvPr/>
            </p:nvSpPr>
            <p:spPr>
              <a:xfrm>
                <a:off x="5677200" y="2762280"/>
                <a:ext cx="13428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31200" y="3086280"/>
                <a:ext cx="106920" cy="81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5488920" y="3059640"/>
                <a:ext cx="187560" cy="5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5409000" y="3140640"/>
                <a:ext cx="53280" cy="27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5247360" y="3004920"/>
                <a:ext cx="18756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247720" y="2843280"/>
                <a:ext cx="26640" cy="13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5435280" y="3438000"/>
                <a:ext cx="134280" cy="27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47720" y="3438000"/>
                <a:ext cx="13392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 flipV="1">
                <a:off x="5112720" y="3410640"/>
                <a:ext cx="10692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5166000" y="3546360"/>
                <a:ext cx="5364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47720" y="278964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42560" y="343800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059440" y="335700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785200" y="311400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193720" y="295164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50560" y="2978640"/>
                <a:ext cx="133920" cy="13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193720" y="346536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059440" y="3627360"/>
                <a:ext cx="160920" cy="16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09000" y="3059640"/>
                <a:ext cx="133560" cy="134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89280" y="305964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355000" y="3357000"/>
                <a:ext cx="133920" cy="13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247720" y="346536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57840" y="281664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623920" y="270828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2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2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114880" y="2781360"/>
            <a:ext cx="777960" cy="1008000"/>
            <a:chOff x="5114880" y="2781360"/>
            <a:chExt cx="777960" cy="1008000"/>
          </a:xfrm>
        </p:grpSpPr>
        <p:sp>
          <p:nvSpPr>
            <p:cNvPr id="1127" name=""/>
            <p:cNvSpPr/>
            <p:nvPr/>
          </p:nvSpPr>
          <p:spPr>
            <a:xfrm flipH="1">
              <a:off x="5741640" y="2957760"/>
              <a:ext cx="50040" cy="12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5114880" y="2781360"/>
              <a:ext cx="777960" cy="1008000"/>
              <a:chOff x="5114880" y="2781360"/>
              <a:chExt cx="777960" cy="1008000"/>
            </a:xfrm>
          </p:grpSpPr>
          <p:sp>
            <p:nvSpPr>
              <p:cNvPr id="1129" name=""/>
              <p:cNvSpPr/>
              <p:nvPr/>
            </p:nvSpPr>
            <p:spPr>
              <a:xfrm>
                <a:off x="5691600" y="2831760"/>
                <a:ext cx="12528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742000" y="3133800"/>
                <a:ext cx="100080" cy="7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5515920" y="3108960"/>
                <a:ext cx="175320" cy="50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5441040" y="3184560"/>
                <a:ext cx="49680" cy="25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290200" y="3057840"/>
                <a:ext cx="175320" cy="101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5290200" y="2907360"/>
                <a:ext cx="24840" cy="12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 flipV="1">
                <a:off x="5465880" y="3461400"/>
                <a:ext cx="125280" cy="2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5290200" y="3461760"/>
                <a:ext cx="12492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5164920" y="3436200"/>
                <a:ext cx="10008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214600" y="3562920"/>
                <a:ext cx="50040" cy="125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90560" y="285732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565960" y="34617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14880" y="33861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792400" y="3159360"/>
                <a:ext cx="100440" cy="100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40160" y="300816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666760" y="30333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40160" y="348732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14880" y="3638520"/>
                <a:ext cx="150120" cy="1508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41040" y="31089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16280" y="31089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90640" y="33861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290560" y="348732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66840" y="288216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41920" y="27813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5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5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114880" y="2781360"/>
            <a:ext cx="722520" cy="934920"/>
            <a:chOff x="5114880" y="2781360"/>
            <a:chExt cx="722520" cy="934920"/>
          </a:xfrm>
        </p:grpSpPr>
        <p:sp>
          <p:nvSpPr>
            <p:cNvPr id="1158" name=""/>
            <p:cNvSpPr/>
            <p:nvPr/>
          </p:nvSpPr>
          <p:spPr>
            <a:xfrm flipH="1">
              <a:off x="5697000" y="2945160"/>
              <a:ext cx="46440" cy="11664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5114880" y="2781360"/>
              <a:ext cx="722520" cy="934920"/>
              <a:chOff x="5114880" y="2781360"/>
              <a:chExt cx="722520" cy="934920"/>
            </a:xfrm>
          </p:grpSpPr>
          <p:sp>
            <p:nvSpPr>
              <p:cNvPr id="1160" name=""/>
              <p:cNvSpPr/>
              <p:nvPr/>
            </p:nvSpPr>
            <p:spPr>
              <a:xfrm>
                <a:off x="5650560" y="2828160"/>
                <a:ext cx="11628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97360" y="3108240"/>
                <a:ext cx="92880" cy="70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87480" y="3085200"/>
                <a:ext cx="162720" cy="46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5418000" y="3155400"/>
                <a:ext cx="46080" cy="233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5277960" y="3038400"/>
                <a:ext cx="162720" cy="93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277960" y="2898000"/>
                <a:ext cx="23040" cy="116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5440680" y="3412080"/>
                <a:ext cx="116280" cy="2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277960" y="3412440"/>
                <a:ext cx="11592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5161320" y="3389040"/>
                <a:ext cx="9288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5207400" y="3506040"/>
                <a:ext cx="46440" cy="116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77960" y="285192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533920" y="34124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114880" y="33422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744160" y="313200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1160" y="299196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27520" y="301500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31160" y="343584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114880" y="3576240"/>
                <a:ext cx="139680" cy="140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8000" y="308520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87480" y="308520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70840" y="334224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277960" y="34358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20400" y="287496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04120" y="278136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170320" y="2852640"/>
            <a:ext cx="667080" cy="863640"/>
            <a:chOff x="5170320" y="2852640"/>
            <a:chExt cx="667080" cy="863640"/>
          </a:xfrm>
        </p:grpSpPr>
        <p:sp>
          <p:nvSpPr>
            <p:cNvPr id="1189" name=""/>
            <p:cNvSpPr/>
            <p:nvPr/>
          </p:nvSpPr>
          <p:spPr>
            <a:xfrm flipH="1">
              <a:off x="5707800" y="3003840"/>
              <a:ext cx="42840" cy="10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5170320" y="2852640"/>
              <a:ext cx="667080" cy="863640"/>
              <a:chOff x="5170320" y="2852640"/>
              <a:chExt cx="667080" cy="863640"/>
            </a:xfrm>
          </p:grpSpPr>
          <p:sp>
            <p:nvSpPr>
              <p:cNvPr id="1191" name=""/>
              <p:cNvSpPr/>
              <p:nvPr/>
            </p:nvSpPr>
            <p:spPr>
              <a:xfrm>
                <a:off x="5664960" y="2895840"/>
                <a:ext cx="10764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08160" y="3154680"/>
                <a:ext cx="85680" cy="65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5514120" y="3133080"/>
                <a:ext cx="150120" cy="43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5450040" y="3197880"/>
                <a:ext cx="424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5320440" y="3089880"/>
                <a:ext cx="15012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5320440" y="2960640"/>
                <a:ext cx="21240" cy="10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5470920" y="3435480"/>
                <a:ext cx="107640" cy="21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5320440" y="3435480"/>
                <a:ext cx="10692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5213160" y="3413880"/>
                <a:ext cx="8568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5255640" y="3522240"/>
                <a:ext cx="42840" cy="107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320800" y="291780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57320" y="34354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70320" y="33706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51360" y="31766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77960" y="30470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643360" y="306864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277960" y="34574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70320" y="3587040"/>
                <a:ext cx="128880" cy="129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50040" y="313308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14480" y="31330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06840" y="337068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320800" y="345744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29400" y="29390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622120" y="285264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21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21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220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221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245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003640" y="2708280"/>
            <a:ext cx="611280" cy="792000"/>
            <a:chOff x="5003640" y="2708280"/>
            <a:chExt cx="611280" cy="792000"/>
          </a:xfrm>
        </p:grpSpPr>
        <p:sp>
          <p:nvSpPr>
            <p:cNvPr id="1247" name=""/>
            <p:cNvSpPr/>
            <p:nvPr/>
          </p:nvSpPr>
          <p:spPr>
            <a:xfrm flipH="1">
              <a:off x="5496120" y="2846880"/>
              <a:ext cx="39240" cy="9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5003640" y="2708280"/>
              <a:ext cx="611280" cy="792000"/>
              <a:chOff x="5003640" y="2708280"/>
              <a:chExt cx="611280" cy="792000"/>
            </a:xfrm>
          </p:grpSpPr>
          <p:sp>
            <p:nvSpPr>
              <p:cNvPr id="1249" name=""/>
              <p:cNvSpPr/>
              <p:nvPr/>
            </p:nvSpPr>
            <p:spPr>
              <a:xfrm>
                <a:off x="5456880" y="2747880"/>
                <a:ext cx="9864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96480" y="2985120"/>
                <a:ext cx="78480" cy="59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5319000" y="2965680"/>
                <a:ext cx="137520" cy="39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5259960" y="3025080"/>
                <a:ext cx="38880" cy="19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5141520" y="2925720"/>
                <a:ext cx="137520" cy="79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5141520" y="2807280"/>
                <a:ext cx="19440" cy="9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5279400" y="3242520"/>
                <a:ext cx="98640" cy="19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5141520" y="3242880"/>
                <a:ext cx="9792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5042880" y="3223080"/>
                <a:ext cx="7848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5081760" y="3322440"/>
                <a:ext cx="39240" cy="9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141520" y="276804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58240" y="32428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03640" y="31834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536080" y="30052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102280" y="28864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37440" y="2906280"/>
                <a:ext cx="97920" cy="9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102280" y="326304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03640" y="3381840"/>
                <a:ext cx="118080" cy="118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259960" y="2965680"/>
                <a:ext cx="97920" cy="98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319000" y="29656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220360" y="3183480"/>
                <a:ext cx="97920" cy="9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141520" y="326304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515920" y="27874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417640" y="27082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27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27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278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279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03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 txBox="1"/>
          <p:nvPr/>
        </p:nvSpPr>
        <p:spPr>
          <a:xfrm>
            <a:off x="0" y="333360"/>
            <a:ext cx="914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молекул состоят клет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9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0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0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310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311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4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325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35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а--элементарная единица жиз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Земл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7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3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5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1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3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3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342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6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2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67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Все клетки сходны по строению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имическому соста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и жизненным функци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7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7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209480" y="1989000"/>
            <a:ext cx="2497680" cy="2519280"/>
            <a:chOff x="4209480" y="1989000"/>
            <a:chExt cx="2497680" cy="2519280"/>
          </a:xfrm>
        </p:grpSpPr>
        <p:grpSp>
          <p:nvGrpSpPr>
            <p:cNvPr id="1374" name=""/>
            <p:cNvGrpSpPr/>
            <p:nvPr/>
          </p:nvGrpSpPr>
          <p:grpSpPr>
            <a:xfrm>
              <a:off x="4209480" y="1989000"/>
              <a:ext cx="2497680" cy="2519280"/>
              <a:chOff x="4209480" y="1989000"/>
              <a:chExt cx="2497680" cy="2519280"/>
            </a:xfrm>
          </p:grpSpPr>
          <p:sp>
            <p:nvSpPr>
              <p:cNvPr id="1375" name=""/>
              <p:cNvSpPr/>
              <p:nvPr/>
            </p:nvSpPr>
            <p:spPr>
              <a:xfrm>
                <a:off x="4211640" y="2057760"/>
                <a:ext cx="2495520" cy="245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4209480" y="1989000"/>
                <a:ext cx="2230200" cy="2089080"/>
                <a:chOff x="4209480" y="1989000"/>
                <a:chExt cx="2230200" cy="20890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4559760" y="1989000"/>
                  <a:ext cx="1879920" cy="1578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211640" y="3103200"/>
                  <a:ext cx="2088720" cy="9748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77360" y="2859120"/>
                  <a:ext cx="834840" cy="5925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559760" y="3103200"/>
                  <a:ext cx="1809360" cy="48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256720" y="2197800"/>
                  <a:ext cx="208800" cy="208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812560" y="2824200"/>
                  <a:ext cx="137520" cy="1393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465520" y="1989000"/>
                  <a:ext cx="903600" cy="835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2287200">
                  <a:off x="4907880" y="2545920"/>
                  <a:ext cx="139680" cy="418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4977360" y="3590280"/>
                  <a:ext cx="974160" cy="417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14439000">
                  <a:off x="4889160" y="3609360"/>
                  <a:ext cx="176400" cy="27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 rot="4625400">
                  <a:off x="4178160" y="3274560"/>
                  <a:ext cx="690840" cy="4863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5951880" y="3032640"/>
                  <a:ext cx="208800" cy="488160"/>
                  <a:chOff x="5951880" y="3032640"/>
                  <a:chExt cx="208800" cy="488160"/>
                </a:xfrm>
              </p:grpSpPr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5951880" y="3032640"/>
                    <a:ext cx="208800" cy="488160"/>
                    <a:chOff x="5951880" y="3032640"/>
                    <a:chExt cx="208800" cy="48816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>
                      <a:off x="5951880" y="3032640"/>
                      <a:ext cx="208800" cy="48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6020640" y="3172320"/>
                      <a:ext cx="69120" cy="68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6020640" y="3312000"/>
                      <a:ext cx="69120" cy="68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>
                      <a:off x="5951880" y="338076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4" name=""/>
                  <p:cNvGrpSpPr/>
                  <p:nvPr/>
                </p:nvGrpSpPr>
                <p:grpSpPr>
                  <a:xfrm>
                    <a:off x="6021000" y="3241080"/>
                    <a:ext cx="138960" cy="279000"/>
                    <a:chOff x="6021000" y="3241080"/>
                    <a:chExt cx="138960" cy="279000"/>
                  </a:xfrm>
                </p:grpSpPr>
                <p:sp>
                  <p:nvSpPr>
                    <p:cNvPr id="1395" name=""/>
                    <p:cNvSpPr/>
                    <p:nvPr/>
                  </p:nvSpPr>
                  <p:spPr>
                    <a:xfrm>
                      <a:off x="6021000" y="324108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6021000" y="345096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6091200" y="338040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>
                      <a:off x="6091200" y="324108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9" name=""/>
            <p:cNvSpPr/>
            <p:nvPr/>
          </p:nvSpPr>
          <p:spPr>
            <a:xfrm>
              <a:off x="4559760" y="3103560"/>
              <a:ext cx="180936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0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0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209120" y="1989000"/>
            <a:ext cx="2426760" cy="2447640"/>
            <a:chOff x="4209120" y="1989000"/>
            <a:chExt cx="2426760" cy="2447640"/>
          </a:xfrm>
        </p:grpSpPr>
        <p:grpSp>
          <p:nvGrpSpPr>
            <p:cNvPr id="1405" name=""/>
            <p:cNvGrpSpPr/>
            <p:nvPr/>
          </p:nvGrpSpPr>
          <p:grpSpPr>
            <a:xfrm>
              <a:off x="4209120" y="1989000"/>
              <a:ext cx="2426760" cy="2447640"/>
              <a:chOff x="4209120" y="1989000"/>
              <a:chExt cx="2426760" cy="2447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4211640" y="2055960"/>
                <a:ext cx="2424240" cy="2380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4209120" y="1989000"/>
                <a:ext cx="2167200" cy="2029680"/>
                <a:chOff x="4209120" y="1989000"/>
                <a:chExt cx="2167200" cy="202968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4550040" y="1989000"/>
                  <a:ext cx="1826280" cy="1533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211640" y="3071520"/>
                  <a:ext cx="2028960" cy="9471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5400" y="2834640"/>
                  <a:ext cx="810720" cy="5756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550040" y="3071520"/>
                  <a:ext cx="1757520" cy="47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226840" y="2191680"/>
                  <a:ext cx="202680" cy="202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66480" y="2800440"/>
                  <a:ext cx="133560" cy="135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429520" y="1989000"/>
                  <a:ext cx="877680" cy="811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rot="2287200">
                  <a:off x="4888440" y="2530080"/>
                  <a:ext cx="135720" cy="4068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V="1">
                  <a:off x="4955400" y="3543840"/>
                  <a:ext cx="946440" cy="4057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rot="14439000">
                  <a:off x="4869360" y="3562920"/>
                  <a:ext cx="17136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 rot="4625400">
                  <a:off x="4178520" y="3238200"/>
                  <a:ext cx="671040" cy="47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9" name=""/>
                <p:cNvGrpSpPr/>
                <p:nvPr/>
              </p:nvGrpSpPr>
              <p:grpSpPr>
                <a:xfrm>
                  <a:off x="5902200" y="3003120"/>
                  <a:ext cx="202680" cy="474480"/>
                  <a:chOff x="5902200" y="3003120"/>
                  <a:chExt cx="202680" cy="474480"/>
                </a:xfrm>
              </p:grpSpPr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5902200" y="3003120"/>
                    <a:ext cx="202680" cy="474480"/>
                    <a:chOff x="5902200" y="3003120"/>
                    <a:chExt cx="202680" cy="47448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5902200" y="3003120"/>
                      <a:ext cx="2026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5968800" y="313884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5968800" y="327456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5902200" y="3341520"/>
                      <a:ext cx="6660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5969160" y="3205800"/>
                    <a:ext cx="135000" cy="271080"/>
                    <a:chOff x="5969160" y="3205800"/>
                    <a:chExt cx="135000" cy="27108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5969160" y="320580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5969160" y="340992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6037200" y="334116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6037200" y="320580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30" name=""/>
            <p:cNvSpPr/>
            <p:nvPr/>
          </p:nvSpPr>
          <p:spPr>
            <a:xfrm>
              <a:off x="4550040" y="3071880"/>
              <a:ext cx="175752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269720" y="3522600"/>
            <a:ext cx="3086280" cy="2571840"/>
            <a:chOff x="1269720" y="3522600"/>
            <a:chExt cx="3086280" cy="2571840"/>
          </a:xfrm>
        </p:grpSpPr>
        <p:sp>
          <p:nvSpPr>
            <p:cNvPr id="74" name=""/>
            <p:cNvSpPr/>
            <p:nvPr/>
          </p:nvSpPr>
          <p:spPr>
            <a:xfrm rot="3208800">
              <a:off x="1840680" y="4775760"/>
              <a:ext cx="229680" cy="1537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6960" y="3522600"/>
              <a:ext cx="2039040" cy="197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3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3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4209840" y="1989000"/>
            <a:ext cx="2354400" cy="2376360"/>
            <a:chOff x="4209840" y="1989000"/>
            <a:chExt cx="2354400" cy="2376360"/>
          </a:xfrm>
        </p:grpSpPr>
        <p:grpSp>
          <p:nvGrpSpPr>
            <p:cNvPr id="1436" name=""/>
            <p:cNvGrpSpPr/>
            <p:nvPr/>
          </p:nvGrpSpPr>
          <p:grpSpPr>
            <a:xfrm>
              <a:off x="4209840" y="1989000"/>
              <a:ext cx="2354400" cy="2376360"/>
              <a:chOff x="4209840" y="1989000"/>
              <a:chExt cx="2354400" cy="2376360"/>
            </a:xfrm>
          </p:grpSpPr>
          <p:sp>
            <p:nvSpPr>
              <p:cNvPr id="1437" name=""/>
              <p:cNvSpPr/>
              <p:nvPr/>
            </p:nvSpPr>
            <p:spPr>
              <a:xfrm>
                <a:off x="4211640" y="2053800"/>
                <a:ext cx="2352600" cy="23115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4209840" y="1989000"/>
                <a:ext cx="2102400" cy="1970640"/>
                <a:chOff x="4209840" y="1989000"/>
                <a:chExt cx="2102400" cy="197064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4539960" y="1989000"/>
                  <a:ext cx="1772280" cy="14886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211640" y="3040200"/>
                  <a:ext cx="1969200" cy="9194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33800" y="2809800"/>
                  <a:ext cx="786960" cy="558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539960" y="3040200"/>
                  <a:ext cx="170568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196960" y="2185920"/>
                  <a:ext cx="196560" cy="196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720760" y="2776680"/>
                  <a:ext cx="129600" cy="1314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393520" y="1989000"/>
                  <a:ext cx="852120" cy="7876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2287200">
                  <a:off x="4867920" y="2514240"/>
                  <a:ext cx="131760" cy="394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4933800" y="3499200"/>
                  <a:ext cx="918720" cy="393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rot="14439000">
                  <a:off x="4849920" y="3517560"/>
                  <a:ext cx="166320" cy="2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 flipV="1" rot="4625400">
                  <a:off x="4179600" y="3201480"/>
                  <a:ext cx="651600" cy="458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"/>
                <p:cNvGrpSpPr/>
                <p:nvPr/>
              </p:nvGrpSpPr>
              <p:grpSpPr>
                <a:xfrm>
                  <a:off x="5852520" y="2973600"/>
                  <a:ext cx="196560" cy="460800"/>
                  <a:chOff x="5852520" y="2973600"/>
                  <a:chExt cx="196560" cy="460800"/>
                </a:xfrm>
              </p:grpSpPr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5852520" y="2973600"/>
                    <a:ext cx="196560" cy="460800"/>
                    <a:chOff x="5852520" y="2973600"/>
                    <a:chExt cx="196560" cy="460800"/>
                  </a:xfrm>
                </p:grpSpPr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5852520" y="2973600"/>
                      <a:ext cx="19656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5917320" y="3105360"/>
                      <a:ext cx="65160" cy="648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5917320" y="3237120"/>
                      <a:ext cx="65160" cy="648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5852520" y="330228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917680" y="3170520"/>
                    <a:ext cx="130680" cy="263160"/>
                    <a:chOff x="5917680" y="3170520"/>
                    <a:chExt cx="130680" cy="26316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5917680" y="3170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>
                      <a:off x="5917680" y="3368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5983560" y="33019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5983560" y="3170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61" name=""/>
            <p:cNvSpPr/>
            <p:nvPr/>
          </p:nvSpPr>
          <p:spPr>
            <a:xfrm>
              <a:off x="4539960" y="3040200"/>
              <a:ext cx="170568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6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6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4209120" y="1989000"/>
            <a:ext cx="2282040" cy="2303640"/>
            <a:chOff x="4209120" y="1989000"/>
            <a:chExt cx="2282040" cy="2303640"/>
          </a:xfrm>
        </p:grpSpPr>
        <p:grpSp>
          <p:nvGrpSpPr>
            <p:cNvPr id="1467" name=""/>
            <p:cNvGrpSpPr/>
            <p:nvPr/>
          </p:nvGrpSpPr>
          <p:grpSpPr>
            <a:xfrm>
              <a:off x="4209120" y="1989000"/>
              <a:ext cx="2282040" cy="2303640"/>
              <a:chOff x="4209120" y="1989000"/>
              <a:chExt cx="2282040" cy="2303640"/>
            </a:xfrm>
          </p:grpSpPr>
          <p:sp>
            <p:nvSpPr>
              <p:cNvPr id="1468" name=""/>
              <p:cNvSpPr/>
              <p:nvPr/>
            </p:nvSpPr>
            <p:spPr>
              <a:xfrm>
                <a:off x="4211640" y="2052000"/>
                <a:ext cx="2279520" cy="22406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4209120" y="1989000"/>
                <a:ext cx="2037600" cy="1909800"/>
                <a:chOff x="4209120" y="1989000"/>
                <a:chExt cx="2037600" cy="19098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4529520" y="1989000"/>
                  <a:ext cx="1717200" cy="1442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211640" y="3007800"/>
                  <a:ext cx="1908000" cy="891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911120" y="2784600"/>
                  <a:ext cx="762480" cy="5414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529520" y="3007800"/>
                  <a:ext cx="1652400" cy="44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166000" y="2179800"/>
                  <a:ext cx="190440" cy="190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673600" y="2752560"/>
                  <a:ext cx="125640" cy="1274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356800" y="1989000"/>
                  <a:ext cx="825480" cy="7635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2287200">
                  <a:off x="4847760" y="2498040"/>
                  <a:ext cx="127440" cy="382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4911120" y="3452040"/>
                  <a:ext cx="889920" cy="38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14439000">
                  <a:off x="4830120" y="3470040"/>
                  <a:ext cx="16128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 flipV="1" rot="4625400">
                  <a:off x="4179960" y="3164400"/>
                  <a:ext cx="631440" cy="4442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1" name=""/>
                <p:cNvGrpSpPr/>
                <p:nvPr/>
              </p:nvGrpSpPr>
              <p:grpSpPr>
                <a:xfrm>
                  <a:off x="5801400" y="2943000"/>
                  <a:ext cx="190440" cy="446400"/>
                  <a:chOff x="5801400" y="2943000"/>
                  <a:chExt cx="190440" cy="446400"/>
                </a:xfrm>
              </p:grpSpPr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5801400" y="2943000"/>
                    <a:ext cx="190440" cy="446400"/>
                    <a:chOff x="5801400" y="2943000"/>
                    <a:chExt cx="190440" cy="44640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801400" y="2943000"/>
                      <a:ext cx="190440" cy="44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864040" y="3070800"/>
                      <a:ext cx="6300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864040" y="3198240"/>
                      <a:ext cx="6300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5801400" y="326124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5864400" y="3133800"/>
                    <a:ext cx="126720" cy="254880"/>
                    <a:chOff x="5864400" y="3133800"/>
                    <a:chExt cx="126720" cy="25488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864400" y="313380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864400" y="332568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928480" y="326124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5928480" y="313380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92" name=""/>
            <p:cNvSpPr/>
            <p:nvPr/>
          </p:nvSpPr>
          <p:spPr>
            <a:xfrm>
              <a:off x="4529880" y="3007800"/>
              <a:ext cx="1652760" cy="44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9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4209480" y="1989000"/>
            <a:ext cx="2138760" cy="2160360"/>
            <a:chOff x="4209480" y="1989000"/>
            <a:chExt cx="2138760" cy="2160360"/>
          </a:xfrm>
        </p:grpSpPr>
        <p:grpSp>
          <p:nvGrpSpPr>
            <p:cNvPr id="1498" name=""/>
            <p:cNvGrpSpPr/>
            <p:nvPr/>
          </p:nvGrpSpPr>
          <p:grpSpPr>
            <a:xfrm>
              <a:off x="4209480" y="1989000"/>
              <a:ext cx="2138760" cy="2160360"/>
              <a:chOff x="4209480" y="1989000"/>
              <a:chExt cx="2138760" cy="2160360"/>
            </a:xfrm>
          </p:grpSpPr>
          <p:sp>
            <p:nvSpPr>
              <p:cNvPr id="1499" name=""/>
              <p:cNvSpPr/>
              <p:nvPr/>
            </p:nvSpPr>
            <p:spPr>
              <a:xfrm>
                <a:off x="4211640" y="2048040"/>
                <a:ext cx="2136600" cy="21013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0" name=""/>
              <p:cNvGrpSpPr/>
              <p:nvPr/>
            </p:nvGrpSpPr>
            <p:grpSpPr>
              <a:xfrm>
                <a:off x="4209480" y="1989000"/>
                <a:ext cx="1909800" cy="1791360"/>
                <a:chOff x="4209480" y="1989000"/>
                <a:chExt cx="1909800" cy="17913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509720" y="1989000"/>
                  <a:ext cx="1609560" cy="1353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211640" y="2944440"/>
                  <a:ext cx="1788480" cy="8359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867200" y="2735280"/>
                  <a:ext cx="714600" cy="5079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509720" y="2944440"/>
                  <a:ext cx="154908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106240" y="2167920"/>
                  <a:ext cx="178560" cy="178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5582160" y="2705040"/>
                  <a:ext cx="117720" cy="1195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285160" y="1989000"/>
                  <a:ext cx="773640" cy="716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2287200">
                  <a:off x="4807800" y="2466720"/>
                  <a:ext cx="119520" cy="358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4867200" y="3361320"/>
                  <a:ext cx="834120" cy="358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4439000">
                  <a:off x="4791600" y="3378600"/>
                  <a:ext cx="151200" cy="2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flipV="1" rot="4625400">
                  <a:off x="4182480" y="3091680"/>
                  <a:ext cx="592200" cy="416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2" name=""/>
                <p:cNvGrpSpPr/>
                <p:nvPr/>
              </p:nvGrpSpPr>
              <p:grpSpPr>
                <a:xfrm>
                  <a:off x="5701680" y="2883960"/>
                  <a:ext cx="178560" cy="418680"/>
                  <a:chOff x="5701680" y="2883960"/>
                  <a:chExt cx="178560" cy="418680"/>
                </a:xfrm>
              </p:grpSpPr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5701680" y="2883960"/>
                    <a:ext cx="178560" cy="418680"/>
                    <a:chOff x="5701680" y="2883960"/>
                    <a:chExt cx="178560" cy="41868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5701680" y="2883960"/>
                      <a:ext cx="178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5760360" y="3003840"/>
                      <a:ext cx="5904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5760360" y="3123360"/>
                      <a:ext cx="5904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701680" y="318240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760720" y="3062880"/>
                    <a:ext cx="118800" cy="239040"/>
                    <a:chOff x="5760720" y="3062880"/>
                    <a:chExt cx="118800" cy="239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760720" y="306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760720" y="324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5820840" y="318240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820840" y="306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23" name=""/>
            <p:cNvSpPr/>
            <p:nvPr/>
          </p:nvSpPr>
          <p:spPr>
            <a:xfrm>
              <a:off x="4509720" y="2944800"/>
              <a:ext cx="154908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2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2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4210200" y="1989000"/>
            <a:ext cx="2090520" cy="2087280"/>
            <a:chOff x="4210200" y="1989000"/>
            <a:chExt cx="2090520" cy="2087280"/>
          </a:xfrm>
        </p:grpSpPr>
        <p:grpSp>
          <p:nvGrpSpPr>
            <p:cNvPr id="1529" name=""/>
            <p:cNvGrpSpPr/>
            <p:nvPr/>
          </p:nvGrpSpPr>
          <p:grpSpPr>
            <a:xfrm>
              <a:off x="4210200" y="1989000"/>
              <a:ext cx="2090520" cy="2087280"/>
              <a:chOff x="4210200" y="1989000"/>
              <a:chExt cx="2090520" cy="2087280"/>
            </a:xfrm>
          </p:grpSpPr>
          <p:sp>
            <p:nvSpPr>
              <p:cNvPr id="1530" name=""/>
              <p:cNvSpPr/>
              <p:nvPr/>
            </p:nvSpPr>
            <p:spPr>
              <a:xfrm>
                <a:off x="4211640" y="2045880"/>
                <a:ext cx="2089080" cy="20304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210200" y="1989000"/>
                <a:ext cx="1866960" cy="1730880"/>
                <a:chOff x="4210200" y="1989000"/>
                <a:chExt cx="1866960" cy="173088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503240" y="1989000"/>
                  <a:ext cx="1573920" cy="1307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211640" y="2912400"/>
                  <a:ext cx="1748520" cy="8074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852800" y="2710080"/>
                  <a:ext cx="698760" cy="4906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503240" y="2912400"/>
                  <a:ext cx="1514520" cy="40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086440" y="2161800"/>
                  <a:ext cx="174600" cy="172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551560" y="2680920"/>
                  <a:ext cx="115200" cy="1155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5261400" y="1989000"/>
                  <a:ext cx="756360" cy="691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2287200">
                  <a:off x="4794480" y="2450880"/>
                  <a:ext cx="117000" cy="347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V="1">
                  <a:off x="4852800" y="3314880"/>
                  <a:ext cx="815760" cy="345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4439000">
                  <a:off x="4779000" y="3330360"/>
                  <a:ext cx="146160" cy="23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flipV="1" rot="4625400">
                  <a:off x="4185720" y="3052080"/>
                  <a:ext cx="572040" cy="407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"/>
                <p:cNvGrpSpPr/>
                <p:nvPr/>
              </p:nvGrpSpPr>
              <p:grpSpPr>
                <a:xfrm>
                  <a:off x="5668560" y="2853720"/>
                  <a:ext cx="174600" cy="404640"/>
                  <a:chOff x="5668560" y="2853720"/>
                  <a:chExt cx="174600" cy="404640"/>
                </a:xfrm>
              </p:grpSpPr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68560" y="2853720"/>
                    <a:ext cx="174600" cy="404640"/>
                    <a:chOff x="5668560" y="2853720"/>
                    <a:chExt cx="174600" cy="40464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5668560" y="2853720"/>
                      <a:ext cx="17460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5726160" y="2969640"/>
                      <a:ext cx="57600" cy="568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5726160" y="3085200"/>
                      <a:ext cx="57600" cy="568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5668560" y="314244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9" name=""/>
                  <p:cNvGrpSpPr/>
                  <p:nvPr/>
                </p:nvGrpSpPr>
                <p:grpSpPr>
                  <a:xfrm>
                    <a:off x="5726160" y="3026520"/>
                    <a:ext cx="116280" cy="231120"/>
                    <a:chOff x="5726160" y="3026520"/>
                    <a:chExt cx="116280" cy="231120"/>
                  </a:xfrm>
                </p:grpSpPr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5726160" y="302652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5726160" y="320040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5784840" y="314208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5784840" y="302652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54" name=""/>
            <p:cNvSpPr/>
            <p:nvPr/>
          </p:nvSpPr>
          <p:spPr>
            <a:xfrm>
              <a:off x="4503240" y="2912400"/>
              <a:ext cx="15145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5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5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210560" y="1989000"/>
            <a:ext cx="2017080" cy="2014560"/>
            <a:chOff x="4210560" y="1989000"/>
            <a:chExt cx="2017080" cy="2014560"/>
          </a:xfrm>
        </p:grpSpPr>
        <p:grpSp>
          <p:nvGrpSpPr>
            <p:cNvPr id="1560" name=""/>
            <p:cNvGrpSpPr/>
            <p:nvPr/>
          </p:nvGrpSpPr>
          <p:grpSpPr>
            <a:xfrm>
              <a:off x="4210560" y="1989000"/>
              <a:ext cx="2017080" cy="2014560"/>
              <a:chOff x="4210560" y="1989000"/>
              <a:chExt cx="2017080" cy="2014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4211640" y="2044080"/>
                <a:ext cx="2016000" cy="19594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"/>
              <p:cNvGrpSpPr/>
              <p:nvPr/>
            </p:nvGrpSpPr>
            <p:grpSpPr>
              <a:xfrm>
                <a:off x="4210560" y="1989000"/>
                <a:ext cx="1801080" cy="1670400"/>
                <a:chOff x="4210560" y="1989000"/>
                <a:chExt cx="1801080" cy="167040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4492800" y="1989000"/>
                  <a:ext cx="1518840" cy="126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211640" y="2880000"/>
                  <a:ext cx="1687680" cy="7794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830480" y="2684880"/>
                  <a:ext cx="674280" cy="4737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492800" y="2880000"/>
                  <a:ext cx="1461600" cy="38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055840" y="2156040"/>
                  <a:ext cx="168480" cy="166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504760" y="2656800"/>
                  <a:ext cx="111240" cy="1116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224680" y="1989000"/>
                  <a:ext cx="730080" cy="6678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2287200">
                  <a:off x="4773960" y="2434680"/>
                  <a:ext cx="112680" cy="3348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4830480" y="3269160"/>
                  <a:ext cx="787320" cy="334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4439000">
                  <a:off x="4759560" y="3282840"/>
                  <a:ext cx="1411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 flipV="1" rot="4625400">
                  <a:off x="4187160" y="3014280"/>
                  <a:ext cx="552240" cy="393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4" name=""/>
                <p:cNvGrpSpPr/>
                <p:nvPr/>
              </p:nvGrpSpPr>
              <p:grpSpPr>
                <a:xfrm>
                  <a:off x="5617800" y="2823480"/>
                  <a:ext cx="168480" cy="390600"/>
                  <a:chOff x="5617800" y="2823480"/>
                  <a:chExt cx="168480" cy="390600"/>
                </a:xfrm>
              </p:grpSpPr>
              <p:grpSp>
                <p:nvGrpSpPr>
                  <p:cNvPr id="1575" name=""/>
                  <p:cNvGrpSpPr/>
                  <p:nvPr/>
                </p:nvGrpSpPr>
                <p:grpSpPr>
                  <a:xfrm>
                    <a:off x="5617800" y="2823480"/>
                    <a:ext cx="168480" cy="390600"/>
                    <a:chOff x="5617800" y="2823480"/>
                    <a:chExt cx="168480" cy="390600"/>
                  </a:xfrm>
                </p:grpSpPr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5617800" y="2823480"/>
                      <a:ext cx="168480" cy="39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5673240" y="2935080"/>
                      <a:ext cx="5580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5673240" y="3047040"/>
                      <a:ext cx="5580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9" name=""/>
                    <p:cNvSpPr/>
                    <p:nvPr/>
                  </p:nvSpPr>
                  <p:spPr>
                    <a:xfrm>
                      <a:off x="5617800" y="31021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0" name=""/>
                  <p:cNvGrpSpPr/>
                  <p:nvPr/>
                </p:nvGrpSpPr>
                <p:grpSpPr>
                  <a:xfrm>
                    <a:off x="5673600" y="2990520"/>
                    <a:ext cx="111960" cy="223200"/>
                    <a:chOff x="5673600" y="2990520"/>
                    <a:chExt cx="111960" cy="223200"/>
                  </a:xfrm>
                </p:grpSpPr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5673600" y="29905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5673600" y="315864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5730120" y="31021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5730120" y="29905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85" name=""/>
            <p:cNvSpPr/>
            <p:nvPr/>
          </p:nvSpPr>
          <p:spPr>
            <a:xfrm>
              <a:off x="4492800" y="2880000"/>
              <a:ext cx="146160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8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8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210560" y="1989000"/>
            <a:ext cx="1945800" cy="1942920"/>
            <a:chOff x="4210560" y="1989000"/>
            <a:chExt cx="1945800" cy="1942920"/>
          </a:xfrm>
        </p:grpSpPr>
        <p:grpSp>
          <p:nvGrpSpPr>
            <p:cNvPr id="1591" name=""/>
            <p:cNvGrpSpPr/>
            <p:nvPr/>
          </p:nvGrpSpPr>
          <p:grpSpPr>
            <a:xfrm>
              <a:off x="4210560" y="1989000"/>
              <a:ext cx="1945800" cy="1942920"/>
              <a:chOff x="4210560" y="1989000"/>
              <a:chExt cx="1945800" cy="1942920"/>
            </a:xfrm>
          </p:grpSpPr>
          <p:sp>
            <p:nvSpPr>
              <p:cNvPr id="1592" name=""/>
              <p:cNvSpPr/>
              <p:nvPr/>
            </p:nvSpPr>
            <p:spPr>
              <a:xfrm>
                <a:off x="4211640" y="2041920"/>
                <a:ext cx="1944720" cy="18900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4210560" y="1989000"/>
                <a:ext cx="1737720" cy="1611000"/>
                <a:chOff x="4210560" y="1989000"/>
                <a:chExt cx="1737720" cy="16110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4483080" y="1989000"/>
                  <a:ext cx="1465200" cy="121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4211640" y="2848320"/>
                  <a:ext cx="1627920" cy="7516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4808520" y="2660040"/>
                  <a:ext cx="650520" cy="4568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4483080" y="2848320"/>
                  <a:ext cx="141012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5025960" y="2149920"/>
                  <a:ext cx="162720" cy="160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459040" y="2633040"/>
                  <a:ext cx="107280" cy="1076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188680" y="1989000"/>
                  <a:ext cx="704160" cy="644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2287200">
                  <a:off x="4754160" y="2418480"/>
                  <a:ext cx="108720" cy="322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4808520" y="3223080"/>
                  <a:ext cx="759240" cy="322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4439000">
                  <a:off x="4740120" y="3237120"/>
                  <a:ext cx="136080" cy="2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 flipV="1" rot="4625400">
                  <a:off x="4188240" y="2977560"/>
                  <a:ext cx="532440" cy="379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67760" y="2793960"/>
                  <a:ext cx="162720" cy="376560"/>
                  <a:chOff x="5567760" y="2793960"/>
                  <a:chExt cx="162720" cy="376560"/>
                </a:xfrm>
              </p:grpSpPr>
              <p:grpSp>
                <p:nvGrpSpPr>
                  <p:cNvPr id="1606" name=""/>
                  <p:cNvGrpSpPr/>
                  <p:nvPr/>
                </p:nvGrpSpPr>
                <p:grpSpPr>
                  <a:xfrm>
                    <a:off x="5567760" y="2793960"/>
                    <a:ext cx="162720" cy="376560"/>
                    <a:chOff x="5567760" y="2793960"/>
                    <a:chExt cx="162720" cy="376560"/>
                  </a:xfrm>
                </p:grpSpPr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5567760" y="2793960"/>
                      <a:ext cx="162720" cy="37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5621400" y="2901600"/>
                      <a:ext cx="53640" cy="529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5621400" y="3009240"/>
                      <a:ext cx="53640" cy="529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5567760" y="306252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1" name=""/>
                  <p:cNvGrpSpPr/>
                  <p:nvPr/>
                </p:nvGrpSpPr>
                <p:grpSpPr>
                  <a:xfrm>
                    <a:off x="5621400" y="2954880"/>
                    <a:ext cx="108360" cy="214920"/>
                    <a:chOff x="5621400" y="2954880"/>
                    <a:chExt cx="108360" cy="214920"/>
                  </a:xfrm>
                </p:grpSpPr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5621400" y="295488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3" name=""/>
                    <p:cNvSpPr/>
                    <p:nvPr/>
                  </p:nvSpPr>
                  <p:spPr>
                    <a:xfrm>
                      <a:off x="5621400" y="311652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5676120" y="306216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5" name=""/>
                    <p:cNvSpPr/>
                    <p:nvPr/>
                  </p:nvSpPr>
                  <p:spPr>
                    <a:xfrm>
                      <a:off x="5676120" y="295488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16" name=""/>
            <p:cNvSpPr/>
            <p:nvPr/>
          </p:nvSpPr>
          <p:spPr>
            <a:xfrm>
              <a:off x="4483080" y="2848680"/>
              <a:ext cx="1410120" cy="37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1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1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4283280" y="2060640"/>
            <a:ext cx="1873080" cy="1871640"/>
            <a:chOff x="4283280" y="2060640"/>
            <a:chExt cx="1873080" cy="1871640"/>
          </a:xfrm>
        </p:grpSpPr>
        <p:grpSp>
          <p:nvGrpSpPr>
            <p:cNvPr id="1622" name=""/>
            <p:cNvGrpSpPr/>
            <p:nvPr/>
          </p:nvGrpSpPr>
          <p:grpSpPr>
            <a:xfrm>
              <a:off x="4283280" y="2060640"/>
              <a:ext cx="1873080" cy="1871640"/>
              <a:chOff x="4283280" y="2060640"/>
              <a:chExt cx="1873080" cy="1871640"/>
            </a:xfrm>
          </p:grpSpPr>
          <p:sp>
            <p:nvSpPr>
              <p:cNvPr id="1623" name=""/>
              <p:cNvSpPr/>
              <p:nvPr/>
            </p:nvSpPr>
            <p:spPr>
              <a:xfrm>
                <a:off x="4284720" y="2111760"/>
                <a:ext cx="1871640" cy="182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4" name=""/>
              <p:cNvGrpSpPr/>
              <p:nvPr/>
            </p:nvGrpSpPr>
            <p:grpSpPr>
              <a:xfrm>
                <a:off x="4283280" y="2060640"/>
                <a:ext cx="1672560" cy="1551600"/>
                <a:chOff x="4283280" y="2060640"/>
                <a:chExt cx="1672560" cy="155160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4545720" y="2060640"/>
                  <a:ext cx="1410120" cy="1172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4284720" y="2888280"/>
                  <a:ext cx="1566720" cy="7239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4859280" y="2707200"/>
                  <a:ext cx="626040" cy="4399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545720" y="2888280"/>
                  <a:ext cx="1357200" cy="36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068440" y="2215800"/>
                  <a:ext cx="156600" cy="154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485320" y="2680920"/>
                  <a:ext cx="103320" cy="1036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225040" y="2060640"/>
                  <a:ext cx="677880" cy="620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2287200">
                  <a:off x="4807080" y="2474640"/>
                  <a:ext cx="104760" cy="311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4859280" y="3250080"/>
                  <a:ext cx="730800" cy="310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14439000">
                  <a:off x="4793400" y="3262680"/>
                  <a:ext cx="131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 flipV="1" rot="4625400">
                  <a:off x="4261680" y="3012840"/>
                  <a:ext cx="513000" cy="365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6" name=""/>
                <p:cNvGrpSpPr/>
                <p:nvPr/>
              </p:nvGrpSpPr>
              <p:grpSpPr>
                <a:xfrm>
                  <a:off x="5590080" y="2835720"/>
                  <a:ext cx="156600" cy="362520"/>
                  <a:chOff x="5590080" y="2835720"/>
                  <a:chExt cx="156600" cy="362520"/>
                </a:xfrm>
              </p:grpSpPr>
              <p:grpSp>
                <p:nvGrpSpPr>
                  <p:cNvPr id="1637" name=""/>
                  <p:cNvGrpSpPr/>
                  <p:nvPr/>
                </p:nvGrpSpPr>
                <p:grpSpPr>
                  <a:xfrm>
                    <a:off x="5590080" y="2835720"/>
                    <a:ext cx="156600" cy="362520"/>
                    <a:chOff x="5590080" y="2835720"/>
                    <a:chExt cx="156600" cy="362520"/>
                  </a:xfrm>
                </p:grpSpPr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5590080" y="2835720"/>
                      <a:ext cx="15660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5641560" y="2939400"/>
                      <a:ext cx="5184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5641560" y="3043080"/>
                      <a:ext cx="5184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5590080" y="309420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2" name=""/>
                  <p:cNvGrpSpPr/>
                  <p:nvPr/>
                </p:nvGrpSpPr>
                <p:grpSpPr>
                  <a:xfrm>
                    <a:off x="5641920" y="2990520"/>
                    <a:ext cx="104040" cy="207000"/>
                    <a:chOff x="5641920" y="2990520"/>
                    <a:chExt cx="104040" cy="207000"/>
                  </a:xfrm>
                </p:grpSpPr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5641920" y="299052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5641920" y="314640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5694480" y="309384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5694480" y="299052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47" name=""/>
            <p:cNvSpPr/>
            <p:nvPr/>
          </p:nvSpPr>
          <p:spPr>
            <a:xfrm>
              <a:off x="4545720" y="2888640"/>
              <a:ext cx="135720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4354920" y="2131920"/>
            <a:ext cx="1801440" cy="1800000"/>
            <a:chOff x="4354920" y="2131920"/>
            <a:chExt cx="1801440" cy="1800000"/>
          </a:xfrm>
        </p:grpSpPr>
        <p:grpSp>
          <p:nvGrpSpPr>
            <p:cNvPr id="1653" name=""/>
            <p:cNvGrpSpPr/>
            <p:nvPr/>
          </p:nvGrpSpPr>
          <p:grpSpPr>
            <a:xfrm>
              <a:off x="4354920" y="2131920"/>
              <a:ext cx="1801440" cy="1800000"/>
              <a:chOff x="4354920" y="2131920"/>
              <a:chExt cx="1801440" cy="1800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4356000" y="2180880"/>
                <a:ext cx="1800360" cy="17510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4354920" y="2131920"/>
                <a:ext cx="1608840" cy="1492920"/>
                <a:chOff x="4354920" y="2131920"/>
                <a:chExt cx="1608840" cy="14929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607280" y="2131920"/>
                  <a:ext cx="1356480" cy="1127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356000" y="2928240"/>
                  <a:ext cx="1506960" cy="6966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908600" y="2753640"/>
                  <a:ext cx="602280" cy="4233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607280" y="2928240"/>
                  <a:ext cx="1305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109840" y="2280960"/>
                  <a:ext cx="150480" cy="148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510880" y="2728440"/>
                  <a:ext cx="99360" cy="997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260680" y="2131920"/>
                  <a:ext cx="651960" cy="596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287200">
                  <a:off x="4858200" y="2529720"/>
                  <a:ext cx="100800" cy="299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V="1">
                  <a:off x="4908600" y="3275280"/>
                  <a:ext cx="703080" cy="298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14439000">
                  <a:off x="4845240" y="3288600"/>
                  <a:ext cx="126000" cy="20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 flipV="1" rot="4625400">
                  <a:off x="4333320" y="3048840"/>
                  <a:ext cx="493560" cy="350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7" name=""/>
                <p:cNvGrpSpPr/>
                <p:nvPr/>
              </p:nvGrpSpPr>
              <p:grpSpPr>
                <a:xfrm>
                  <a:off x="5611680" y="2877480"/>
                  <a:ext cx="150480" cy="348840"/>
                  <a:chOff x="5611680" y="2877480"/>
                  <a:chExt cx="150480" cy="348840"/>
                </a:xfrm>
              </p:grpSpPr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5611680" y="2877480"/>
                    <a:ext cx="150480" cy="348840"/>
                    <a:chOff x="5611680" y="2877480"/>
                    <a:chExt cx="150480" cy="34884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611680" y="2877480"/>
                      <a:ext cx="150480" cy="34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5661360" y="2977200"/>
                      <a:ext cx="49680" cy="48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661360" y="3076920"/>
                      <a:ext cx="49680" cy="48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>
                      <a:off x="5611680" y="312624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5661360" y="3026520"/>
                    <a:ext cx="100440" cy="199080"/>
                    <a:chOff x="5661360" y="3026520"/>
                    <a:chExt cx="100440" cy="19908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5661360" y="302652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661360" y="317628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5712120" y="312588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712120" y="302652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78" name=""/>
            <p:cNvSpPr/>
            <p:nvPr/>
          </p:nvSpPr>
          <p:spPr>
            <a:xfrm>
              <a:off x="4607280" y="2928240"/>
              <a:ext cx="130536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8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8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4426920" y="2203560"/>
            <a:ext cx="1729440" cy="1728360"/>
            <a:chOff x="4426920" y="2203560"/>
            <a:chExt cx="1729440" cy="1728360"/>
          </a:xfrm>
        </p:grpSpPr>
        <p:grpSp>
          <p:nvGrpSpPr>
            <p:cNvPr id="1684" name=""/>
            <p:cNvGrpSpPr/>
            <p:nvPr/>
          </p:nvGrpSpPr>
          <p:grpSpPr>
            <a:xfrm>
              <a:off x="4426920" y="2203560"/>
              <a:ext cx="1729440" cy="1728360"/>
              <a:chOff x="4426920" y="2203560"/>
              <a:chExt cx="1729440" cy="1728360"/>
            </a:xfrm>
          </p:grpSpPr>
          <p:sp>
            <p:nvSpPr>
              <p:cNvPr id="1685" name=""/>
              <p:cNvSpPr/>
              <p:nvPr/>
            </p:nvSpPr>
            <p:spPr>
              <a:xfrm>
                <a:off x="4427640" y="2250720"/>
                <a:ext cx="1728720" cy="16812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6" name=""/>
              <p:cNvGrpSpPr/>
              <p:nvPr/>
            </p:nvGrpSpPr>
            <p:grpSpPr>
              <a:xfrm>
                <a:off x="4426920" y="2203560"/>
                <a:ext cx="1544040" cy="1433520"/>
                <a:chOff x="4426920" y="2203560"/>
                <a:chExt cx="1544040" cy="143352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668840" y="2203560"/>
                  <a:ext cx="1302120" cy="1082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4427640" y="2968200"/>
                  <a:ext cx="1446840" cy="6688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4958280" y="2800800"/>
                  <a:ext cx="578160" cy="4064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668840" y="2968200"/>
                  <a:ext cx="125316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151600" y="2346840"/>
                  <a:ext cx="144360" cy="142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536440" y="2776680"/>
                  <a:ext cx="95400" cy="957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296320" y="2203560"/>
                  <a:ext cx="626040" cy="573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287200">
                  <a:off x="4910040" y="2585520"/>
                  <a:ext cx="96840" cy="2872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4958280" y="3301920"/>
                  <a:ext cx="675000" cy="2865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14439000">
                  <a:off x="4897080" y="3314160"/>
                  <a:ext cx="120960" cy="19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 rot="4625400">
                  <a:off x="4406760" y="3083760"/>
                  <a:ext cx="473760" cy="336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8" name=""/>
                <p:cNvGrpSpPr/>
                <p:nvPr/>
              </p:nvGrpSpPr>
              <p:grpSpPr>
                <a:xfrm>
                  <a:off x="5633280" y="2919600"/>
                  <a:ext cx="144360" cy="335160"/>
                  <a:chOff x="5633280" y="2919600"/>
                  <a:chExt cx="144360" cy="335160"/>
                </a:xfrm>
              </p:grpSpPr>
              <p:grpSp>
                <p:nvGrpSpPr>
                  <p:cNvPr id="1699" name=""/>
                  <p:cNvGrpSpPr/>
                  <p:nvPr/>
                </p:nvGrpSpPr>
                <p:grpSpPr>
                  <a:xfrm>
                    <a:off x="5633280" y="2919600"/>
                    <a:ext cx="144360" cy="335160"/>
                    <a:chOff x="5633280" y="2919600"/>
                    <a:chExt cx="144360" cy="335160"/>
                  </a:xfrm>
                </p:grpSpPr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5633280" y="2919600"/>
                      <a:ext cx="144360" cy="33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5680800" y="3015360"/>
                      <a:ext cx="47880" cy="47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5680800" y="3111480"/>
                      <a:ext cx="47880" cy="47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5633280" y="31586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5681160" y="3062880"/>
                    <a:ext cx="96120" cy="191880"/>
                    <a:chOff x="5681160" y="3062880"/>
                    <a:chExt cx="96120" cy="191880"/>
                  </a:xfrm>
                </p:grpSpPr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5681160" y="306288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5681160" y="32072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5729760" y="31586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5729760" y="306288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09" name=""/>
            <p:cNvSpPr/>
            <p:nvPr/>
          </p:nvSpPr>
          <p:spPr>
            <a:xfrm>
              <a:off x="4668840" y="2968200"/>
              <a:ext cx="125352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1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1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499640" y="2276640"/>
            <a:ext cx="1656720" cy="1655280"/>
            <a:chOff x="4499640" y="2276640"/>
            <a:chExt cx="1656720" cy="1655280"/>
          </a:xfrm>
        </p:grpSpPr>
        <p:grpSp>
          <p:nvGrpSpPr>
            <p:cNvPr id="1715" name=""/>
            <p:cNvGrpSpPr/>
            <p:nvPr/>
          </p:nvGrpSpPr>
          <p:grpSpPr>
            <a:xfrm>
              <a:off x="4499640" y="2276640"/>
              <a:ext cx="1656720" cy="1655280"/>
              <a:chOff x="4499640" y="2276640"/>
              <a:chExt cx="1656720" cy="1655280"/>
            </a:xfrm>
          </p:grpSpPr>
          <p:sp>
            <p:nvSpPr>
              <p:cNvPr id="1716" name=""/>
              <p:cNvSpPr/>
              <p:nvPr/>
            </p:nvSpPr>
            <p:spPr>
              <a:xfrm>
                <a:off x="4500720" y="2321640"/>
                <a:ext cx="1655640" cy="16102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4499640" y="2276640"/>
                <a:ext cx="1479600" cy="1372680"/>
                <a:chOff x="4499640" y="2276640"/>
                <a:chExt cx="1479600" cy="137268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4731840" y="2276640"/>
                  <a:ext cx="1247400" cy="103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500720" y="3008880"/>
                  <a:ext cx="1386000" cy="6404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008680" y="2848680"/>
                  <a:ext cx="553680" cy="3891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731840" y="3008880"/>
                  <a:ext cx="1200600" cy="31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194080" y="2413800"/>
                  <a:ext cx="138240" cy="136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5562720" y="2825280"/>
                  <a:ext cx="91440" cy="914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5332680" y="2276640"/>
                  <a:ext cx="599400" cy="548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rot="2287200">
                  <a:off x="4962600" y="2642400"/>
                  <a:ext cx="92520" cy="275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5008680" y="3328920"/>
                  <a:ext cx="646560" cy="274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rot="14439000">
                  <a:off x="4950720" y="3340080"/>
                  <a:ext cx="115920" cy="1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 rot="4625400">
                  <a:off x="4480560" y="3120120"/>
                  <a:ext cx="453960" cy="32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5655600" y="2962440"/>
                  <a:ext cx="138240" cy="320760"/>
                  <a:chOff x="5655600" y="2962440"/>
                  <a:chExt cx="138240" cy="320760"/>
                </a:xfrm>
              </p:grpSpPr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655600" y="2962440"/>
                    <a:ext cx="138240" cy="320760"/>
                    <a:chOff x="5655600" y="2962440"/>
                    <a:chExt cx="138240" cy="32076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5655600" y="2962440"/>
                      <a:ext cx="13824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5700960" y="3054240"/>
                      <a:ext cx="45720" cy="45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5700960" y="3146040"/>
                      <a:ext cx="45720" cy="45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"/>
                    <p:cNvSpPr/>
                    <p:nvPr/>
                  </p:nvSpPr>
                  <p:spPr>
                    <a:xfrm>
                      <a:off x="5655600" y="319104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5" name=""/>
                  <p:cNvGrpSpPr/>
                  <p:nvPr/>
                </p:nvGrpSpPr>
                <p:grpSpPr>
                  <a:xfrm>
                    <a:off x="5701320" y="3099600"/>
                    <a:ext cx="91800" cy="183240"/>
                    <a:chOff x="5701320" y="3099600"/>
                    <a:chExt cx="91800" cy="183240"/>
                  </a:xfrm>
                </p:grpSpPr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5701320" y="309960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5701320" y="323748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5747760" y="319104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5747760" y="309960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40" name=""/>
            <p:cNvSpPr/>
            <p:nvPr/>
          </p:nvSpPr>
          <p:spPr>
            <a:xfrm>
              <a:off x="4731840" y="3008880"/>
              <a:ext cx="12006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5:48:19Z</dcterms:created>
  <dc:creator>я</dc:creator>
  <dc:description/>
  <dc:language>en-US</dc:language>
  <cp:lastModifiedBy>И Р О Ч К А</cp:lastModifiedBy>
  <dcterms:modified xsi:type="dcterms:W3CDTF">2006-04-20T20:19:33Z</dcterms:modified>
  <cp:revision>7</cp:revision>
  <dc:subject/>
  <dc:title>Слайд 1</dc:title>
</cp:coreProperties>
</file>